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0F833-1E02-434A-B548-78054D656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0570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20B55-F545-4CCF-A91F-125289337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93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0570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4932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2439-386A-47ED-9A61-BB6605806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243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916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0570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3243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916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CA7A2-1608-46D7-ABD7-4EAE3CE68C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057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3005A-A119-4CDD-9552-36D97AD852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4A15-8378-4755-BA17-23DC76C7B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932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554AB-7F1E-43AC-AA7F-1B32FB453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91231-35D2-4445-83FB-57E8411D7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B84D5-A460-43FB-8572-6BA821548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932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0570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27A6E-5670-499C-A38D-F1228884D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93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932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02EB4-ED86-42D6-BFDE-6BC7120D9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932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570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C1A70-B08D-43C1-A2C4-FE369A513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477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cc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0000"/>
                </a:solidFill>
                <a:latin typeface="Tahoma"/>
              </a:rPr>
              <a:t>www.agenda21nrw.de                             www.netzwerk-fahrradkuriere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28240" y="6477120"/>
            <a:ext cx="609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4841-9F01-4B6F-B26C-98C5CC173969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einewelt" descr=""/>
          <p:cNvPicPr/>
          <p:nvPr/>
        </p:nvPicPr>
        <p:blipFill>
          <a:blip r:embed="rId2"/>
          <a:srcRect l="0" t="15534" r="-1042" b="14567"/>
          <a:stretch/>
        </p:blipFill>
        <p:spPr>
          <a:xfrm>
            <a:off x="101520" y="5029200"/>
            <a:ext cx="762120" cy="685800"/>
          </a:xfrm>
          <a:prstGeom prst="rect">
            <a:avLst/>
          </a:prstGeom>
          <a:ln w="0">
            <a:noFill/>
          </a:ln>
        </p:spPr>
      </p:pic>
      <p:pic>
        <p:nvPicPr>
          <p:cNvPr id="5" name="gesundheit_verbraucher" descr=""/>
          <p:cNvPicPr/>
          <p:nvPr/>
        </p:nvPicPr>
        <p:blipFill>
          <a:blip r:embed="rId3"/>
          <a:stretch/>
        </p:blipFill>
        <p:spPr>
          <a:xfrm>
            <a:off x="139680" y="4267080"/>
            <a:ext cx="725400" cy="671760"/>
          </a:xfrm>
          <a:prstGeom prst="rect">
            <a:avLst/>
          </a:prstGeom>
          <a:ln w="0">
            <a:noFill/>
          </a:ln>
        </p:spPr>
      </p:pic>
      <p:pic>
        <p:nvPicPr>
          <p:cNvPr id="6" name="nachhwirtschaften" descr=""/>
          <p:cNvPicPr/>
          <p:nvPr/>
        </p:nvPicPr>
        <p:blipFill>
          <a:blip r:embed="rId4"/>
          <a:srcRect l="0" t="0" r="0" b="36846"/>
          <a:stretch/>
        </p:blipFill>
        <p:spPr>
          <a:xfrm>
            <a:off x="838080" y="2743200"/>
            <a:ext cx="71604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siedlungnaturraeume" descr=""/>
          <p:cNvPicPr/>
          <p:nvPr/>
        </p:nvPicPr>
        <p:blipFill>
          <a:blip r:embed="rId5"/>
          <a:srcRect l="23693" t="0" r="0" b="0"/>
          <a:stretch/>
        </p:blipFill>
        <p:spPr>
          <a:xfrm>
            <a:off x="838080" y="3505320"/>
            <a:ext cx="736560" cy="674640"/>
          </a:xfrm>
          <a:prstGeom prst="rect">
            <a:avLst/>
          </a:prstGeom>
          <a:ln w="0">
            <a:noFill/>
          </a:ln>
        </p:spPr>
      </p:pic>
      <p:pic>
        <p:nvPicPr>
          <p:cNvPr id="8" name="sozialpolitik" descr=""/>
          <p:cNvPicPr/>
          <p:nvPr/>
        </p:nvPicPr>
        <p:blipFill>
          <a:blip r:embed="rId6"/>
          <a:srcRect l="9586" t="7693" r="0" b="23079"/>
          <a:stretch/>
        </p:blipFill>
        <p:spPr>
          <a:xfrm>
            <a:off x="139680" y="5791320"/>
            <a:ext cx="719280" cy="685800"/>
          </a:xfrm>
          <a:prstGeom prst="rect">
            <a:avLst/>
          </a:prstGeom>
          <a:ln w="0">
            <a:noFill/>
          </a:ln>
        </p:spPr>
      </p:pic>
      <p:pic>
        <p:nvPicPr>
          <p:cNvPr id="9" name="klimaschutz" descr=""/>
          <p:cNvPicPr/>
          <p:nvPr/>
        </p:nvPicPr>
        <p:blipFill>
          <a:blip r:embed="rId7"/>
          <a:srcRect l="17210" t="0" r="0" b="0"/>
          <a:stretch/>
        </p:blipFill>
        <p:spPr>
          <a:xfrm>
            <a:off x="838080" y="1965240"/>
            <a:ext cx="733680" cy="7016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 flipV="1">
            <a:off x="838080" y="175212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6320" y="64771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4191120"/>
            <a:ext cx="1522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549440" y="1905120"/>
            <a:ext cx="7632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agenda%20logo%20landkarte" descr=""/>
          <p:cNvPicPr/>
          <p:nvPr/>
        </p:nvPicPr>
        <p:blipFill>
          <a:blip r:embed="rId8"/>
          <a:stretch/>
        </p:blipFill>
        <p:spPr>
          <a:xfrm>
            <a:off x="7702560" y="5943600"/>
            <a:ext cx="113652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30492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Fahrrad und Wirtschaftsverkehr</a:t>
            </a:r>
            <a:br>
              <a:rPr sz="3200"/>
            </a:b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Chancen und Perspektiven für Fahrradkurierdienste</a:t>
            </a:r>
            <a:br>
              <a:rPr sz="2400"/>
            </a:b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05120" y="205740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ongress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Wirtschaft in Bewegung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m 11. Oktober 2004 in Dres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Rita Rohlfi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lott weg Fahrradkurier Gmb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undesverband der Fahrradkurierdienste e.V. (bd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Waldemar Mathejczyk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hein-Ruhr-Institut für Sozialforschung und Politikberatung (RISP) e.V. an der Universität Duisburg-E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60948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Entwicklung der Fahrradkurierdienste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1981080"/>
            <a:ext cx="7543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80e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   Markteinfüh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90e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   Etablierung in den Großstäd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Heu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  Festigung als Nischenanbi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Zunahme in den Städte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Perspektiven im Transportmark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Imagegewi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BB38-76D6-418E-AE0C-03D91A9AF7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Allgemeine Marktentwicklung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r KEP-Markt im Umbru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3124080"/>
            <a:ext cx="243828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4724280"/>
            <a:ext cx="243864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ketdien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5257800"/>
            <a:ext cx="24382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vern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bi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3124080"/>
            <a:ext cx="2286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Klein- und mittler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Kurierunterneh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04960" y="2590920"/>
            <a:ext cx="10666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657240" y="2666880"/>
            <a:ext cx="121932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2743200"/>
            <a:ext cx="30492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666880"/>
            <a:ext cx="114300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2590920"/>
            <a:ext cx="11430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4267080"/>
            <a:ext cx="205740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ahrrad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kurierdien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0CF86-1E52-44F0-8CB7-A4A860E036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Kooperationsmöglichkeiten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cc0000"/>
                </a:solidFill>
                <a:latin typeface="Tahoma"/>
              </a:rPr>
              <a:t>Netzwerke und Schnittstellen</a:t>
            </a:r>
            <a:endParaRPr b="0" lang="en-US" sz="2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57400" y="175212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3886200"/>
            <a:ext cx="243864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ah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7120" y="4191120"/>
            <a:ext cx="2438280" cy="914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utokuri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2286000"/>
            <a:ext cx="2438640" cy="2438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adkuri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3809880"/>
            <a:ext cx="3812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4114800"/>
            <a:ext cx="3808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419720"/>
            <a:ext cx="3808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733920"/>
            <a:ext cx="3808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657600"/>
            <a:ext cx="3808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3657600"/>
            <a:ext cx="3808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4038480"/>
            <a:ext cx="3808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4038480"/>
            <a:ext cx="3808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4343400"/>
            <a:ext cx="3808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952880"/>
            <a:ext cx="129564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C-Kur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5181480"/>
            <a:ext cx="129564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gional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ah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5181480"/>
            <a:ext cx="1295640" cy="68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Kuri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5029200"/>
            <a:ext cx="1295640" cy="68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Lok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Kuri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39625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3733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97180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42900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42670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952880" y="441936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4190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3733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800600" y="41907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495680" y="41148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952880" y="3809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486400" y="38858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3809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4876920"/>
            <a:ext cx="129528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Verkehr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verbü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4648320"/>
            <a:ext cx="7617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828440" y="46483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629400" y="49528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49528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0C3CD-15D9-4780-8AB1-E7096A50A1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Fahrradkurierunternehmen in NRW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6175440" y="5927760"/>
            <a:ext cx="6094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5440" y="5927760"/>
            <a:ext cx="6094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Uebersicht_NRW500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257800" cy="5048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450040" y="2535120"/>
            <a:ext cx="79200" cy="795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57800" y="2746440"/>
            <a:ext cx="79200" cy="792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4175280"/>
            <a:ext cx="79200" cy="792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4800600"/>
            <a:ext cx="79560" cy="792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4520" y="5184720"/>
            <a:ext cx="79560" cy="795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754440"/>
            <a:ext cx="79560" cy="792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6800" y="3641760"/>
            <a:ext cx="79560" cy="792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813120"/>
            <a:ext cx="79560" cy="795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78440" y="3602160"/>
            <a:ext cx="79200" cy="792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4000" y="3525840"/>
            <a:ext cx="79560" cy="792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12920" y="5126040"/>
            <a:ext cx="79560" cy="792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8720" y="3983040"/>
            <a:ext cx="79560" cy="792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36800" y="4098960"/>
            <a:ext cx="79560" cy="792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41720" y="3962520"/>
            <a:ext cx="79560" cy="792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30720" y="3983040"/>
            <a:ext cx="79200" cy="792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92640" y="4403880"/>
            <a:ext cx="79200" cy="792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11560" y="3657600"/>
            <a:ext cx="79560" cy="792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5760" y="4727520"/>
            <a:ext cx="79560" cy="795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803840"/>
            <a:ext cx="79200" cy="792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4876920"/>
            <a:ext cx="79560" cy="792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5261040"/>
            <a:ext cx="79560" cy="792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4952880"/>
            <a:ext cx="79200" cy="795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2362320"/>
            <a:ext cx="53316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tt we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62640" y="2670120"/>
            <a:ext cx="34308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Sub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2320" y="4884840"/>
            <a:ext cx="61128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Road Rid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19160" y="5184720"/>
            <a:ext cx="44532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Radzfat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46480" y="5032440"/>
            <a:ext cx="50292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Transve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4648320"/>
            <a:ext cx="533160" cy="26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elo-Mo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4648320"/>
            <a:ext cx="68580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Bike-Syndik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4114800"/>
            <a:ext cx="60948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RotRun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4343400"/>
            <a:ext cx="53316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lott-Flot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20280" y="3962520"/>
            <a:ext cx="42372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Pedal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88640" y="4114800"/>
            <a:ext cx="46656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Pedal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40240" y="3513240"/>
            <a:ext cx="69048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eißer Reif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3732120"/>
            <a:ext cx="68580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Time Bandi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67720" y="3352680"/>
            <a:ext cx="52596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litzkur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25720" y="3817800"/>
            <a:ext cx="45432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City-Bik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41160" y="4041720"/>
            <a:ext cx="62352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elosprin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05240" y="3429000"/>
            <a:ext cx="69048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eißer Reif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30480" y="3589200"/>
            <a:ext cx="57312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ie Kuri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3741840"/>
            <a:ext cx="83808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RS-Post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3480" y="3807000"/>
            <a:ext cx="79200" cy="792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13720" y="3886200"/>
            <a:ext cx="61128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ity Exp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4264200"/>
            <a:ext cx="79200" cy="792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4275000"/>
            <a:ext cx="609480" cy="26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Direct-Kur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2739960"/>
            <a:ext cx="79560" cy="795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86640" y="2819520"/>
            <a:ext cx="58392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rief Direk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4800600"/>
            <a:ext cx="38088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Rap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4800600"/>
            <a:ext cx="45720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adla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87480" y="5337000"/>
            <a:ext cx="358200" cy="14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elofi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23261-132B-4FCB-BDBB-0D3AAEE0B40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Kooperationen von Fahrradkurieren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6175440" y="5964120"/>
            <a:ext cx="60624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5440" y="5964120"/>
            <a:ext cx="60624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Uebersicht_NRW500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261040" cy="5092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450040" y="2541600"/>
            <a:ext cx="115560" cy="1173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61040" y="2773440"/>
            <a:ext cx="11592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3640" y="4197240"/>
            <a:ext cx="11592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2240" y="4811760"/>
            <a:ext cx="115920" cy="1173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4520" y="5272200"/>
            <a:ext cx="115920" cy="1173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3840" y="4965840"/>
            <a:ext cx="11592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68600" y="3772080"/>
            <a:ext cx="115920" cy="1173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6800" y="3659040"/>
            <a:ext cx="11592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7320" y="3811680"/>
            <a:ext cx="115920" cy="1173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78440" y="3618000"/>
            <a:ext cx="115560" cy="1173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4000" y="3541680"/>
            <a:ext cx="115920" cy="1173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12920" y="5156280"/>
            <a:ext cx="11592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98720" y="4002120"/>
            <a:ext cx="115920" cy="1173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36800" y="4119480"/>
            <a:ext cx="115920" cy="1177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41720" y="3925800"/>
            <a:ext cx="115920" cy="1177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30720" y="4002120"/>
            <a:ext cx="115920" cy="1173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92640" y="4427640"/>
            <a:ext cx="11556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9083600">
            <a:off x="5025960" y="2516040"/>
            <a:ext cx="830160" cy="3128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5079800">
            <a:off x="3184920" y="4913640"/>
            <a:ext cx="819000" cy="3348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13080" y="3844800"/>
            <a:ext cx="115920" cy="1177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7080" y="2743200"/>
            <a:ext cx="11592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4E921-EB00-412C-9C79-0798CD3C6D2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Fahrradkuriere &amp; IC-Bahnhöfe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6175440" y="5711760"/>
            <a:ext cx="6094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5440" y="5711760"/>
            <a:ext cx="6094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Uebersicht_NRW500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261040" cy="5048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450040" y="2608200"/>
            <a:ext cx="11556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61040" y="2836800"/>
            <a:ext cx="11592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3640" y="4248000"/>
            <a:ext cx="11592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32240" y="4857840"/>
            <a:ext cx="11592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84520" y="5315040"/>
            <a:ext cx="11592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03840" y="5010120"/>
            <a:ext cx="11592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3809880"/>
            <a:ext cx="11592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6800" y="3714840"/>
            <a:ext cx="11592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8120" y="3867120"/>
            <a:ext cx="11592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78440" y="3675240"/>
            <a:ext cx="115560" cy="1155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94000" y="3598920"/>
            <a:ext cx="11592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12920" y="5199120"/>
            <a:ext cx="11592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8720" y="4056120"/>
            <a:ext cx="11592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36800" y="4172040"/>
            <a:ext cx="11592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41720" y="3979800"/>
            <a:ext cx="11592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30720" y="4056120"/>
            <a:ext cx="11592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92640" y="4476600"/>
            <a:ext cx="11556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2590920"/>
            <a:ext cx="19872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3657600"/>
            <a:ext cx="19872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35200" y="5288040"/>
            <a:ext cx="19872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82920" y="4830840"/>
            <a:ext cx="19836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63600" y="5181480"/>
            <a:ext cx="198720" cy="19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02040" y="3840120"/>
            <a:ext cx="19836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59240" y="3763800"/>
            <a:ext cx="198360" cy="19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87840" y="3687840"/>
            <a:ext cx="19836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54320" y="4221000"/>
            <a:ext cx="198360" cy="19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87840" y="4145040"/>
            <a:ext cx="19836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92400" y="3962520"/>
            <a:ext cx="19872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21000" y="2697120"/>
            <a:ext cx="19872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30640" y="3840120"/>
            <a:ext cx="19836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3886200"/>
            <a:ext cx="11592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2743200"/>
            <a:ext cx="115920" cy="1159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5538960"/>
            <a:ext cx="115920" cy="1155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16640" y="5730840"/>
            <a:ext cx="19836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5486400"/>
            <a:ext cx="914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hrradkur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C-Bahnh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A36A9-EF85-4123-855B-54B9E5C7592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NRW und andere Ballungsräume</a:t>
            </a:r>
            <a:endParaRPr b="0" lang="en-US" sz="32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124080" y="2438280"/>
            <a:ext cx="2743200" cy="2514600"/>
            <a:chOff x="3124080" y="2438280"/>
            <a:chExt cx="2743200" cy="2514600"/>
          </a:xfrm>
        </p:grpSpPr>
        <p:pic>
          <p:nvPicPr>
            <p:cNvPr id="252" name="Uebersicht_NRW500" descr=""/>
            <p:cNvPicPr/>
            <p:nvPr/>
          </p:nvPicPr>
          <p:blipFill>
            <a:blip r:embed="rId1"/>
            <a:stretch/>
          </p:blipFill>
          <p:spPr>
            <a:xfrm>
              <a:off x="3124080" y="2438280"/>
              <a:ext cx="274320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3" name=""/>
            <p:cNvGrpSpPr/>
            <p:nvPr/>
          </p:nvGrpSpPr>
          <p:grpSpPr>
            <a:xfrm>
              <a:off x="3363840" y="3016080"/>
              <a:ext cx="2383560" cy="1811520"/>
              <a:chOff x="3363840" y="3016080"/>
              <a:chExt cx="2383560" cy="1811520"/>
            </a:xfrm>
          </p:grpSpPr>
          <p:sp>
            <p:nvSpPr>
              <p:cNvPr id="254" name=""/>
              <p:cNvSpPr/>
              <p:nvPr/>
            </p:nvSpPr>
            <p:spPr>
              <a:xfrm>
                <a:off x="5429880" y="4705920"/>
                <a:ext cx="317520" cy="12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429880" y="4705920"/>
                <a:ext cx="317520" cy="12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051520" y="3016080"/>
                <a:ext cx="60120" cy="57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953240" y="3129840"/>
                <a:ext cx="60120" cy="57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429880" y="4705920"/>
                <a:ext cx="317520" cy="12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880440" y="3832560"/>
                <a:ext cx="60120" cy="57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999600" y="4136400"/>
                <a:ext cx="60120" cy="57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78800" y="4364280"/>
                <a:ext cx="60120" cy="57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714560" y="4212360"/>
                <a:ext cx="60120" cy="57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018320" y="3623400"/>
                <a:ext cx="60120" cy="57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58360" y="3567240"/>
                <a:ext cx="60120" cy="57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840480" y="3642840"/>
                <a:ext cx="60120" cy="57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336560" y="3547440"/>
                <a:ext cx="60120" cy="5724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396680" y="3509280"/>
                <a:ext cx="60120" cy="57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63840" y="4306320"/>
                <a:ext cx="60120" cy="57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721320" y="3737160"/>
                <a:ext cx="60120" cy="57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158360" y="3794760"/>
                <a:ext cx="60120" cy="57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317120" y="3699000"/>
                <a:ext cx="60120" cy="57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415760" y="3737160"/>
                <a:ext cx="60120" cy="57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978720" y="3946680"/>
                <a:ext cx="60120" cy="57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259092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Hamb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5410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Mün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1676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Ber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449568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276720" y="1904760"/>
            <a:ext cx="3808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562720" y="205704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DCE63-393E-4693-896F-B3E34399105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Praxisbeispiel 1:</a:t>
            </a:r>
            <a:br>
              <a:rPr sz="3200"/>
            </a:br>
            <a:r>
              <a:rPr b="1" i="1" lang="en-US" sz="3200" spc="-1" strike="noStrike">
                <a:solidFill>
                  <a:srgbClr val="cc0000"/>
                </a:solidFill>
                <a:latin typeface="Tahoma"/>
              </a:rPr>
              <a:t>Kooperation mit dem IC-Kurier</a:t>
            </a:r>
            <a:endParaRPr b="0" lang="en-US" sz="3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1905120"/>
            <a:ext cx="335268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ilotprojekt am Hauptbahnhof Kö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ooperation zwischen Kölner Radkurieren und dem IC-Kur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spektiven d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usweitung geg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038320" y="1962000"/>
            <a:ext cx="2762280" cy="443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0C95-1EE2-4045-8EEA-C8BD3236C4B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 flipH="1">
            <a:off x="1888560" y="3352680"/>
            <a:ext cx="549000" cy="533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Ku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030480" y="3124080"/>
            <a:ext cx="550800" cy="534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Ku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812960" y="4724280"/>
            <a:ext cx="550800" cy="534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Ku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955960" y="5105520"/>
            <a:ext cx="549360" cy="534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Ku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529720" y="4114800"/>
            <a:ext cx="1066680" cy="533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IC-Bahnh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021200" y="4800600"/>
            <a:ext cx="550800" cy="457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Ku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048120" y="3581280"/>
            <a:ext cx="712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18000" y="4572000"/>
            <a:ext cx="342720" cy="230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274560" y="4724280"/>
            <a:ext cx="1800" cy="382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391840" y="4648320"/>
            <a:ext cx="271800" cy="230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314080" y="3885840"/>
            <a:ext cx="2746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147840" y="3733920"/>
            <a:ext cx="68400" cy="382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3541320" y="4648320"/>
            <a:ext cx="344520" cy="30456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124080" y="4723920"/>
            <a:ext cx="1800" cy="3049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308320" y="4571640"/>
            <a:ext cx="204840" cy="15228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59160" y="3809880"/>
            <a:ext cx="204840" cy="3049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733920" y="2437920"/>
            <a:ext cx="3047760" cy="1676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733920" y="2590920"/>
            <a:ext cx="3124080" cy="167616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010280" y="1905120"/>
            <a:ext cx="914400" cy="533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IC-Bahnh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8381880" y="1981080"/>
            <a:ext cx="479520" cy="457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333cc"/>
                </a:solidFill>
                <a:latin typeface="Arial"/>
              </a:rPr>
              <a:t>Kun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172200" y="1981080"/>
            <a:ext cx="480960" cy="457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333cc"/>
                </a:solidFill>
                <a:latin typeface="Arial"/>
              </a:rPr>
              <a:t>Kun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780960" y="2666880"/>
            <a:ext cx="482760" cy="457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333cc"/>
                </a:solidFill>
                <a:latin typeface="Arial"/>
              </a:rPr>
              <a:t>Kun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848720" y="2590920"/>
            <a:ext cx="480960" cy="457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333cc"/>
                </a:solidFill>
                <a:latin typeface="Arial"/>
              </a:rPr>
              <a:t>Kun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077320" y="1371600"/>
            <a:ext cx="482400" cy="457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333cc"/>
                </a:solidFill>
                <a:latin typeface="Arial"/>
              </a:rPr>
              <a:t>Kun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215120" y="1219320"/>
            <a:ext cx="480960" cy="457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333cc"/>
                </a:solidFill>
                <a:latin typeface="Arial"/>
              </a:rPr>
              <a:t>Kun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37339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ernverkeh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 IC-Kurie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21337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dtverkeh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 Radk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67480" y="1676520"/>
            <a:ext cx="52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65760" y="220968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7124760" y="2362320"/>
            <a:ext cx="1364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66200" y="2362320"/>
            <a:ext cx="204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824960" y="1752480"/>
            <a:ext cx="274320" cy="2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916760" y="2209680"/>
            <a:ext cx="41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8088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Praxisbeispiel 1:</a:t>
            </a:r>
            <a:br>
              <a:rPr sz="3200"/>
            </a:br>
            <a:r>
              <a:rPr b="1" i="1" lang="en-US" sz="3200" spc="-1" strike="noStrike">
                <a:solidFill>
                  <a:srgbClr val="cc0000"/>
                </a:solidFill>
                <a:latin typeface="Tahoma"/>
              </a:rPr>
              <a:t>Kooperation mit dem IC-Ku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C42AC-F315-4B84-B42E-3E3ABFB573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Praxisbeispiel 1:</a:t>
            </a:r>
            <a:br>
              <a:rPr sz="3200"/>
            </a:br>
            <a:r>
              <a:rPr b="1" i="1" lang="en-US" sz="3200" spc="-1" strike="noStrike">
                <a:solidFill>
                  <a:srgbClr val="cc0000"/>
                </a:solidFill>
                <a:latin typeface="Tahoma"/>
              </a:rPr>
              <a:t>Kooperation mit dem IC-Kurier</a:t>
            </a:r>
            <a:endParaRPr b="0" lang="en-US" sz="32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981080" y="1984320"/>
            <a:ext cx="5486400" cy="411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D81FC-43FB-4700-B04B-97888497751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30492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Fahrrad und Wirtschaftsverkehr</a:t>
            </a:r>
            <a:br>
              <a:rPr sz="3200"/>
            </a:b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Chancen und Perspektiven für Fahrradkurierdienste</a:t>
            </a:r>
            <a:br>
              <a:rPr sz="2400"/>
            </a:b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05120" y="2209320"/>
            <a:ext cx="685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informatio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10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ziel: Kooperatio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10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axisbeispiel 1: Radkurier + IC-Kur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10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 Fahrradkurierunternehmen flott w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10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axisbeispiel 2: Regionalbah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10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hre Fragen + Anmerku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81080" y="91440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  <a:ea typeface="Arial"/>
              </a:rPr>
              <a:t>flott weg Fahrradkurier GmbH</a:t>
            </a:r>
            <a:br>
              <a:rPr sz="3200"/>
            </a:br>
            <a:r>
              <a:rPr b="1" i="1" lang="en-US" sz="2800" spc="-1" strike="noStrike">
                <a:solidFill>
                  <a:srgbClr val="cc0000"/>
                </a:solidFill>
                <a:latin typeface="Tahoma"/>
                <a:ea typeface="Arial"/>
              </a:rPr>
              <a:t>Standortbestimmung</a:t>
            </a:r>
            <a:endParaRPr b="0" lang="en-US" sz="2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9810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tandort Bielef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Betrieb flott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nsportanbieter in Bielef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2BFA9-6757-4274-8FCF-F592DA6567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81080" y="91440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  <a:ea typeface="Arial"/>
              </a:rPr>
              <a:t>flott weg Fahrradkurier GmbH</a:t>
            </a:r>
            <a:br>
              <a:rPr sz="3200"/>
            </a:br>
            <a:r>
              <a:rPr b="1" i="1" lang="en-US" sz="2800" spc="-1" strike="noStrike">
                <a:solidFill>
                  <a:srgbClr val="cc0000"/>
                </a:solidFill>
                <a:latin typeface="Tahoma"/>
                <a:ea typeface="Arial"/>
              </a:rPr>
              <a:t>Leistungsangebote</a:t>
            </a:r>
            <a:endParaRPr b="0" lang="en-US" sz="2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6782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Arial"/>
              </a:rPr>
              <a:t>Fahrradkur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Arial"/>
              </a:rPr>
              <a:t>Transporte für PKW bis 2,8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Arial"/>
              </a:rPr>
              <a:t>Overnight und Sa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Arial"/>
              </a:rPr>
              <a:t>Botendienst-Logisti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Arial"/>
              </a:rPr>
              <a:t>Fahrradverlei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DD06-9FA0-4322-8B77-E1662A27B4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81080" y="91440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  <a:ea typeface="Arial"/>
              </a:rPr>
              <a:t>flott weg Fahrradkurier GmbH</a:t>
            </a:r>
            <a:br>
              <a:rPr sz="3200"/>
            </a:br>
            <a:r>
              <a:rPr b="1" i="1" lang="en-US" sz="2800" spc="-1" strike="noStrike">
                <a:solidFill>
                  <a:srgbClr val="cc0000"/>
                </a:solidFill>
                <a:latin typeface="Tahoma"/>
                <a:ea typeface="Arial"/>
              </a:rPr>
              <a:t>Kundenspektrum</a:t>
            </a:r>
            <a:endParaRPr b="0" lang="en-US" sz="2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05704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99 % gewerbliche Ku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lle Branchen und Betriebsgröß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ca. 150 Aufträge täg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Von der CD bis zur Palet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61268-FEA4-4F2F-AE52-2F5F545FB0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81080" y="91440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  <a:ea typeface="Arial"/>
              </a:rPr>
              <a:t>flott weg Fahrradkurier GmbH</a:t>
            </a:r>
            <a:br>
              <a:rPr sz="3200"/>
            </a:br>
            <a:r>
              <a:rPr b="1" i="1" lang="en-US" sz="3200" spc="-1" strike="noStrike">
                <a:solidFill>
                  <a:srgbClr val="cc0000"/>
                </a:solidFill>
                <a:latin typeface="Tahoma"/>
                <a:ea typeface="Arial"/>
              </a:rPr>
              <a:t>Ö</a:t>
            </a:r>
            <a:r>
              <a:rPr b="1" i="1" lang="en-US" sz="2800" spc="-1" strike="noStrike">
                <a:solidFill>
                  <a:srgbClr val="cc0000"/>
                </a:solidFill>
                <a:latin typeface="Tahoma"/>
                <a:ea typeface="Arial"/>
              </a:rPr>
              <a:t>kologischer All-Round-Anbieter </a:t>
            </a:r>
            <a:endParaRPr b="0" lang="en-US" sz="2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81080" y="2209320"/>
            <a:ext cx="7315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Arial"/>
              </a:rPr>
              <a:t>Fahrradkur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Arial"/>
              </a:rPr>
              <a:t>Car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Arial"/>
              </a:rPr>
              <a:t>PKW-Kooperationspart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Arial"/>
              </a:rPr>
              <a:t>Erdgasbetriebener Transpor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Arial"/>
              </a:rPr>
              <a:t>Bahn im Nah- und Fernbere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FC66A-7948-4925-AA96-A38EEA38BA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81080" y="91440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  <a:ea typeface="Arial"/>
              </a:rPr>
              <a:t>flott weg Fahrradkurier GmbH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ahoma"/>
                <a:ea typeface="Arial"/>
              </a:rPr>
              <a:t>„</a:t>
            </a:r>
            <a:r>
              <a:rPr b="1" i="1" lang="en-US" sz="2800" spc="-1" strike="noStrike">
                <a:solidFill>
                  <a:srgbClr val="cc0000"/>
                </a:solidFill>
                <a:latin typeface="Tahoma"/>
                <a:ea typeface="Arial"/>
              </a:rPr>
              <a:t>Flotte Erfahrungen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Arial"/>
              </a:rPr>
              <a:t>“ </a:t>
            </a:r>
            <a:r>
              <a:rPr b="1" i="1" lang="en-US" sz="2800" spc="-1" strike="noStrike">
                <a:solidFill>
                  <a:srgbClr val="cc0000"/>
                </a:solidFill>
                <a:latin typeface="Tahoma"/>
                <a:ea typeface="Arial"/>
              </a:rPr>
              <a:t>am Rande</a:t>
            </a:r>
            <a:endParaRPr b="0" lang="en-US" sz="2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057040" y="18284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Kein Kunde zahlt für ökologisc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ransporte meh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r ökologische Ansatz verschaff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unseren Kunden ein gutes Gewiss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Ökologisch orientierte Geschäftspartn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rauen uns mehr zu als reine Autofahr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Extrem viele Kunden haben uns geziel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zu Erdgasfahrzeugen befrag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Viele Kunden erzählen uns, warum si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ad fahren bzw. nicht Rad fahr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EBC5-A8D7-4448-BBA8-8B98DF5718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81080" y="91440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  <a:ea typeface="Arial"/>
              </a:rPr>
              <a:t>flott weg Fahrradkurier GmbH</a:t>
            </a:r>
            <a:br>
              <a:rPr sz="3200"/>
            </a:br>
            <a:r>
              <a:rPr b="1" i="1" lang="en-US" sz="2800" spc="-1" strike="noStrike">
                <a:solidFill>
                  <a:srgbClr val="cc0000"/>
                </a:solidFill>
                <a:latin typeface="Tahoma"/>
                <a:ea typeface="Arial"/>
              </a:rPr>
              <a:t>Visionen und Wünsche</a:t>
            </a:r>
            <a:endParaRPr b="0" lang="en-US" sz="2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781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tärkere Vernetzung zwischen Rad und Bah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usbau von Radwegen u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Förderung radelnder Mitarbei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leichstellung von Radverkehr u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otorisiertem Verkeh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Ökologische Mobilitäts- und Logistikberat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ufträge aus Ämtern, Behörden, Verwaltu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Unterstützung für ökologisch orientier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ransportunterneh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4077C-56F0-496E-B08C-987D123BC6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Praxisbeispiel 2:</a:t>
            </a:r>
            <a:br>
              <a:rPr sz="3200"/>
            </a:br>
            <a:r>
              <a:rPr b="1" i="1" lang="en-US" sz="3200" spc="-1" strike="noStrike">
                <a:solidFill>
                  <a:srgbClr val="cc0000"/>
                </a:solidFill>
                <a:latin typeface="Tahoma"/>
              </a:rPr>
              <a:t>Kooperation mit der Regionalbahn</a:t>
            </a:r>
            <a:endParaRPr b="0" lang="en-US" sz="3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1523880" y="4556160"/>
            <a:ext cx="6705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ooperation im Raum Gütersloh-Bielefeld mit der Nordwestba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Übertragbarkeit auf andere Regionalbahn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rundsätzlich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Fahrzeugwerbung_300" descr="Die Grafik &quot;http://www.nordwestbahn.de/Bilder_Redaktion/Fahrzeugwerbung_300.jpg&quot; kann nicht angezeigt werden, weil sie Fehler enthält."/>
          <p:cNvPicPr/>
          <p:nvPr/>
        </p:nvPicPr>
        <p:blipFill>
          <a:blip r:embed="rId1"/>
          <a:stretch/>
        </p:blipFill>
        <p:spPr>
          <a:xfrm>
            <a:off x="2590920" y="1752480"/>
            <a:ext cx="4190760" cy="26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0AE68-5793-4F79-ACF1-E75D698C1E0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 flipH="1">
            <a:off x="1888560" y="3352680"/>
            <a:ext cx="549000" cy="533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Ku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030480" y="3124080"/>
            <a:ext cx="550800" cy="534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Ku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812960" y="4724280"/>
            <a:ext cx="550800" cy="534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Ku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955960" y="5105520"/>
            <a:ext cx="549360" cy="534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Ku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529720" y="4114800"/>
            <a:ext cx="1066680" cy="533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IC-Bahnh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021200" y="4800600"/>
            <a:ext cx="550800" cy="457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Ku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048120" y="3581280"/>
            <a:ext cx="712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18000" y="4572000"/>
            <a:ext cx="342720" cy="230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274560" y="4724280"/>
            <a:ext cx="1800" cy="382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391840" y="4648320"/>
            <a:ext cx="271800" cy="230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2314080" y="3885840"/>
            <a:ext cx="2746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147840" y="3733920"/>
            <a:ext cx="68400" cy="382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3541320" y="4648320"/>
            <a:ext cx="344520" cy="30456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124080" y="4723920"/>
            <a:ext cx="1800" cy="3049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308320" y="4571640"/>
            <a:ext cx="204840" cy="15228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59160" y="3809880"/>
            <a:ext cx="204840" cy="3049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733920" y="2437920"/>
            <a:ext cx="3047760" cy="1676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733920" y="2590920"/>
            <a:ext cx="3124080" cy="167616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010280" y="1905120"/>
            <a:ext cx="914400" cy="533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IC-Bahnh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381880" y="1981080"/>
            <a:ext cx="479520" cy="457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333cc"/>
                </a:solidFill>
                <a:latin typeface="Arial"/>
              </a:rPr>
              <a:t>Kun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172200" y="1981080"/>
            <a:ext cx="480960" cy="457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333cc"/>
                </a:solidFill>
                <a:latin typeface="Arial"/>
              </a:rPr>
              <a:t>Kun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780960" y="2666880"/>
            <a:ext cx="482760" cy="457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333cc"/>
                </a:solidFill>
                <a:latin typeface="Arial"/>
              </a:rPr>
              <a:t>Kun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7848720" y="2590920"/>
            <a:ext cx="480960" cy="457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333cc"/>
                </a:solidFill>
                <a:latin typeface="Arial"/>
              </a:rPr>
              <a:t>Kun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8077320" y="1371600"/>
            <a:ext cx="482400" cy="457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333cc"/>
                </a:solidFill>
                <a:latin typeface="Arial"/>
              </a:rPr>
              <a:t>Kun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139160" y="1295280"/>
            <a:ext cx="480960" cy="457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333cc"/>
                </a:solidFill>
                <a:latin typeface="Arial"/>
              </a:rPr>
              <a:t>Kun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864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hienenverkeh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rdwestbah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21337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dtverkeh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 Radk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467480" y="1676520"/>
            <a:ext cx="52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65760" y="220968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124760" y="2362320"/>
            <a:ext cx="1364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66200" y="2362320"/>
            <a:ext cx="204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7824960" y="1752480"/>
            <a:ext cx="274320" cy="2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916760" y="2209680"/>
            <a:ext cx="41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2120" y="3808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Praxisbeispiel 2:</a:t>
            </a:r>
            <a:br>
              <a:rPr sz="3200"/>
            </a:br>
            <a:r>
              <a:rPr b="1" i="1" lang="en-US" sz="3200" spc="-1" strike="noStrike">
                <a:solidFill>
                  <a:srgbClr val="cc0000"/>
                </a:solidFill>
                <a:latin typeface="Tahoma"/>
              </a:rPr>
              <a:t>Kooperation mit der Regionalba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4FF48-896E-4006-9364-AB742CEB52E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Praxisbeispiel 2:</a:t>
            </a:r>
            <a:br>
              <a:rPr sz="3200"/>
            </a:br>
            <a:r>
              <a:rPr b="1" i="1" lang="en-US" sz="3200" spc="-1" strike="noStrike">
                <a:solidFill>
                  <a:srgbClr val="cc0000"/>
                </a:solidFill>
                <a:latin typeface="Tahoma"/>
              </a:rPr>
              <a:t>Kooperation mit der Regionalbahn</a:t>
            </a:r>
            <a:endParaRPr b="0" lang="en-US" sz="3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1900080"/>
            <a:ext cx="33526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bürokrati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Zuverläss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hn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32605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C4B5-F05B-4AA5-9570-C59C10BB653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762120" y="3808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Weitere Informat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0" y="1523880"/>
            <a:ext cx="304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76520" y="1905120"/>
            <a:ext cx="7848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  <a:ea typeface="Arial"/>
              </a:rPr>
              <a:t>http://www.netzwerk-fahrradkuriere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ttp://www.agenda21.nrw.de/21nrw/netzwerk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  <a:ea typeface="Tahoma"/>
              </a:rPr>
              <a:t>http://www.time-matters.com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  <a:ea typeface="Tahoma"/>
              </a:rPr>
              <a:t>http://www.nordwestbahn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  <a:ea typeface="Tahoma"/>
              </a:rPr>
              <a:t>http://www.bdfev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  <a:ea typeface="Tahoma"/>
              </a:rPr>
              <a:t>http://www.risp-duisbur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9BD39-28B8-4ACD-963E-3DAFD31C3C9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05120" y="53352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Fahrrad und Wirtschaftsverkehr</a:t>
            </a:r>
            <a:br>
              <a:rPr sz="3200"/>
            </a:b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Chancen und Perspektiven für Fahrradkurierdi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RISPLOGOeV" descr=""/>
          <p:cNvPicPr/>
          <p:nvPr/>
        </p:nvPicPr>
        <p:blipFill>
          <a:blip r:embed="rId1"/>
          <a:stretch/>
        </p:blipFill>
        <p:spPr>
          <a:xfrm>
            <a:off x="3733920" y="4575240"/>
            <a:ext cx="1218960" cy="98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5102280" y="4572000"/>
          <a:ext cx="820800" cy="100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2280" y="4572000"/>
                    <a:ext cx="82080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wappen_farbig" descr="Die Grafik “http://www.nrw.de/06_service_und_download/63_download/wappen_farbig.jpg” kann nicht angezeigt werden, da sie Fehler enthält."/>
          <p:cNvPicPr/>
          <p:nvPr/>
        </p:nvPicPr>
        <p:blipFill>
          <a:blip r:embed="rId4"/>
          <a:stretch/>
        </p:blipFill>
        <p:spPr>
          <a:xfrm>
            <a:off x="5943600" y="2286000"/>
            <a:ext cx="654120" cy="685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19520" y="220968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ium für Umwelt u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turschutz, Landwirtschaf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 Verbraucherschutz NR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59960" y="3097080"/>
            <a:ext cx="21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Agenda 21 N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5715000"/>
            <a:ext cx="34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Netzwerk Fahrradkuri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569916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304812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3657600"/>
            <a:ext cx="1981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495680"/>
            <a:ext cx="7086600" cy="1752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6A2D7-6362-4342-B187-66BEDA9D366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495680" y="2438280"/>
            <a:ext cx="2819520" cy="106704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schäftsfüh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einsvorst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itglie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05120" y="3733920"/>
            <a:ext cx="6324480" cy="1904760"/>
          </a:xfrm>
          <a:prstGeom prst="ellipse">
            <a:avLst/>
          </a:prstGeom>
          <a:solidFill>
            <a:srgbClr val="cce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hwerpunk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essenvertretung für Fahrradkurierdien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örderung des Radverkeh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ärkung ökologischer Mobilitätskonzep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90920" y="1584360"/>
          <a:ext cx="1628640" cy="19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584360"/>
                    <a:ext cx="1628640" cy="19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762120" y="3808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0000"/>
                </a:solidFill>
                <a:latin typeface="Tahoma"/>
              </a:rPr>
              <a:t>Der bdf und seine Aufga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F3D2-231A-4C5A-86C4-D0066776753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62120" y="3808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Der RISP und seine Kompeten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05120" y="1447920"/>
            <a:ext cx="685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1981080" cy="15940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447920" y="3886200"/>
            <a:ext cx="1752480" cy="1066680"/>
          </a:xfrm>
          <a:prstGeom prst="ellipse">
            <a:avLst/>
          </a:prstGeom>
          <a:solidFill>
            <a:srgbClr val="cce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beit und Wirtsch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5880" y="1828800"/>
            <a:ext cx="2819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schäftsführender Direk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ssenschaftliches Direktor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Vereinsvorst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52680" y="3886200"/>
            <a:ext cx="1752840" cy="1066680"/>
          </a:xfrm>
          <a:prstGeom prst="ellipse">
            <a:avLst/>
          </a:prstGeom>
          <a:solidFill>
            <a:srgbClr val="cce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ultur, Medien u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ommunik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57800" y="3886200"/>
            <a:ext cx="1752480" cy="1066680"/>
          </a:xfrm>
          <a:prstGeom prst="ellipse">
            <a:avLst/>
          </a:prstGeom>
          <a:solidFill>
            <a:srgbClr val="cce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cherhe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d Kriminalitä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38880" y="3886200"/>
            <a:ext cx="1752840" cy="1066680"/>
          </a:xfrm>
          <a:prstGeom prst="ellipse">
            <a:avLst/>
          </a:prstGeom>
          <a:solidFill>
            <a:srgbClr val="cce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itik, Bürg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d Verwal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666520" y="30481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19920" y="297180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4343400" y="3048120"/>
            <a:ext cx="76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57800" y="30481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5181480"/>
            <a:ext cx="6019560" cy="9144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wendungsorientierte Forschung: Gütertransport/Logist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beitsplatznahe Qualifizierungskonze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yse und Gestaltung von Arbeitsbeding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ranchen-/Unternehmensanaly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14600" y="3124080"/>
            <a:ext cx="4648320" cy="457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 Kompetenzfelder mit insgesamt 7 Projektgrupp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81080" y="5334120"/>
            <a:ext cx="914400" cy="457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hwer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nk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4572000"/>
            <a:ext cx="69840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62320" y="4572000"/>
            <a:ext cx="69840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05320" y="4572000"/>
            <a:ext cx="69840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MiK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4572000"/>
            <a:ext cx="69876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P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10080" y="4572000"/>
            <a:ext cx="69876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72200" y="4572000"/>
            <a:ext cx="69840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lik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848720" y="4572000"/>
            <a:ext cx="69840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V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19320" y="4876920"/>
            <a:ext cx="733320" cy="914400"/>
          </a:xfrm>
          <a:custGeom>
            <a:avLst/>
            <a:gdLst>
              <a:gd name="textAreaLeft" fmla="*/ 98280 w 733320"/>
              <a:gd name="textAreaRight" fmla="*/ 635040 w 73332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46AA0-3CF3-4165-9E95-7B808D12F60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04760" y="30492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Fahrrad und Wirtschaftsverkehr</a:t>
            </a:r>
            <a:br>
              <a:rPr sz="3200"/>
            </a:b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Chancen und Perspektiven für Fahrradkurierdienste</a:t>
            </a:r>
            <a:br>
              <a:rPr sz="2400"/>
            </a:b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905120" y="205740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ongress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Wirtschaft in Bewegung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m 11. Oktober 2004 in Dres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Rita Rohlfi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fo@flott-weg.de  Tel. 0521 / 17 88 1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Waldemar Mathejczyk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thejczyk@uni-duisburg.de Tel. 0203 / 280 99 1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Eckdaten des Projek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itel: Netzwerk Fahrradkuriere NR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ederführung: bdf + 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teiligung: Fahrradkuriere in NR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örderdauer: 8/2004 - 7/2005 (Phase 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iele: Stärkung, Vernetzung, Entwicklung von Kooper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8A274-B1D2-4A6B-BA50-95FFBF9CFD2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Ziele des Projektes</a:t>
            </a:r>
            <a:endParaRPr b="0" lang="en-US" sz="3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etzwerkbildung und Stärkung der Bran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operationen untereinander sowie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it anderen Logistikanbietern und Verkehrsträg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Öffentlichkeitsarbe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örderung umweltfreundlicher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erkehrs- bzw. Transportlösung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2CE8A-0F77-4587-8FEB-CFDA0DF6D14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Ressourcen des Projekts</a:t>
            </a:r>
            <a:endParaRPr b="0" lang="en-US" sz="3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df + RISP als Anlaufstellen nut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ntakte machen + Infos sammel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emeinsame Aktionen koordini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ückmeldung in die Politik geb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ranchen-Öffentlichkeitsarbeit mac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ratung + Qualifizierung organisi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8C8D2-6076-41AB-8BE3-8AB052CD453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1080" y="91440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  <a:ea typeface="Arial"/>
              </a:rPr>
              <a:t>Ergebnisse (1):</a:t>
            </a:r>
            <a:br>
              <a:rPr sz="3200"/>
            </a:br>
            <a:r>
              <a:rPr b="1" i="1" lang="en-US" sz="3200" spc="-1" strike="noStrike">
                <a:solidFill>
                  <a:srgbClr val="cc0000"/>
                </a:solidFill>
                <a:latin typeface="Tahoma"/>
                <a:ea typeface="Arial"/>
              </a:rPr>
              <a:t>Netzwerkarbeit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28800" y="182844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andsaufnahme über &amp; Kontakt z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lle/n Fahrradkurieren in NR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dressenlisten und E-Mail-Verteil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jektbüros in Duisburg &amp; Bielef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Veranstaltungen mit Fahrradkuri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64F5E-7E1E-4703-928F-D9D921570D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81080" y="91440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  <a:ea typeface="Arial"/>
              </a:rPr>
              <a:t>Ergebnisse (2):</a:t>
            </a:r>
            <a:br>
              <a:rPr sz="3200"/>
            </a:br>
            <a:r>
              <a:rPr b="1" i="1" lang="en-US" sz="3200" spc="-1" strike="noStrike">
                <a:solidFill>
                  <a:srgbClr val="cc0000"/>
                </a:solidFill>
                <a:latin typeface="Tahoma"/>
                <a:ea typeface="Arial"/>
              </a:rPr>
              <a:t>Öffentlichkeitsarbeit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800" y="18284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Arial"/>
              </a:rPr>
              <a:t>Internet-Platt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Arial"/>
              </a:rPr>
              <a:t>Artikel in Fach- und Tagespres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Arial"/>
              </a:rPr>
              <a:t>Publikationen (Ratgeber, Branchenrepor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Arial"/>
              </a:rPr>
              <a:t>Präsentationen auf Veranstaltung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Arial"/>
              </a:rPr>
              <a:t>Mailing-Aktionen (Ministerien, Äm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A82CD-F19B-44E5-B062-8861C1B176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1080" y="91440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  <a:ea typeface="Arial"/>
              </a:rPr>
              <a:t>Ergebnisse (3):</a:t>
            </a:r>
            <a:br>
              <a:rPr sz="3200"/>
            </a:br>
            <a:r>
              <a:rPr b="1" i="1" lang="en-US" sz="3200" spc="-1" strike="noStrike">
                <a:solidFill>
                  <a:srgbClr val="cc0000"/>
                </a:solidFill>
                <a:latin typeface="Tahoma"/>
                <a:ea typeface="Arial"/>
              </a:rPr>
              <a:t>Kooperationen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18284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rfahrungsaustausch durch Worksh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raktische Hilfe in Form nützlicher Tip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ahrradkuriere untereina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adkurier und Autoku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ahrradkurier und Bah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1B00E-AB6F-4002-83E3-B8F29E32D3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2T15:42:37Z</dcterms:created>
  <dc:creator>Ref I-7</dc:creator>
  <dc:description/>
  <dc:language>en-US</dc:language>
  <cp:lastModifiedBy>wmathejczyk</cp:lastModifiedBy>
  <dcterms:modified xsi:type="dcterms:W3CDTF">2004-10-13T12:41:01Z</dcterms:modified>
  <cp:revision>150</cp:revision>
  <dc:subject/>
  <dc:title>Agenda 21  Northrhine-Westphalia</dc:title>
</cp:coreProperties>
</file>