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6.png" ContentType="image/png"/>
  <Override PartName="/ppt/media/image49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.jpeg" ContentType="image/jpe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8.jpeg" ContentType="image/jpeg"/>
  <Override PartName="/ppt/media/image38.png" ContentType="image/png"/>
  <Override PartName="/ppt/media/image5.jpeg" ContentType="image/jpeg"/>
  <Override PartName="/ppt/media/image29.png" ContentType="image/png"/>
  <Override PartName="/ppt/media/image14.wmf" ContentType="image/x-wmf"/>
  <Override PartName="/ppt/media/image33.png" ContentType="image/png"/>
  <Override PartName="/ppt/media/image40.png" ContentType="image/png"/>
  <Override PartName="/ppt/media/image42.png" ContentType="image/png"/>
  <Override PartName="/ppt/media/image32.png" ContentType="image/png"/>
  <Override PartName="/ppt/media/image44.png" ContentType="image/png"/>
  <Override PartName="/ppt/media/image45.jpeg" ContentType="image/jpeg"/>
  <Override PartName="/ppt/media/image35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48.jpeg" ContentType="image/jpeg"/>
  <Override PartName="/ppt/media/image51.png" ContentType="image/png"/>
  <Override PartName="/ppt/media/image43.png" ContentType="image/png"/>
  <Override PartName="/ppt/media/image54.wmf" ContentType="image/x-wmf"/>
  <Override PartName="/ppt/media/image39.png" ContentType="image/png"/>
  <Override PartName="/ppt/media/image9.png" ContentType="image/png"/>
  <Override PartName="/ppt/media/image17.wmf" ContentType="image/x-wmf"/>
  <Override PartName="/ppt/media/image31.jpeg" ContentType="image/jpeg"/>
  <Override PartName="/ppt/media/image53.wmf" ContentType="image/x-wmf"/>
  <Override PartName="/ppt/media/image13.png" ContentType="image/png"/>
  <Override PartName="/ppt/media/image52.wmf" ContentType="image/x-wmf"/>
  <Override PartName="/ppt/media/image12.png" ContentType="image/png"/>
  <Override PartName="/ppt/media/image47.png" ContentType="image/png"/>
  <Override PartName="/ppt/media/image50.wmf" ContentType="image/x-wmf"/>
  <Override PartName="/ppt/media/image10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907588" cy="6858000"/>
  <p:notesSz cx="6778625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738360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531800" y="3929400"/>
            <a:ext cx="738360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15040" y="138888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531800" y="392940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15040" y="392940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237744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28400" y="1388880"/>
            <a:ext cx="237744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5360" y="1388880"/>
            <a:ext cx="237744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531800" y="3929400"/>
            <a:ext cx="237744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28400" y="3929400"/>
            <a:ext cx="237744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5360" y="3929400"/>
            <a:ext cx="237744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B2F-3D08-4CAB-9124-EB9E6592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31800" y="1388880"/>
            <a:ext cx="7383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6EC-8411-43D7-842A-4C618BA1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738360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1FE-C411-40FB-A30F-4DDA2937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360288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15040" y="1388880"/>
            <a:ext cx="360288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333-63B0-492A-9A8E-DE00E9B5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E85-3FE9-4D56-B802-681A9195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533240" y="236160"/>
            <a:ext cx="73818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91C-0E0A-4DD0-894A-D7A7BD31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15040" y="1388880"/>
            <a:ext cx="360288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31800" y="392940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A3B-9F79-4905-935D-3463EDDE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531800" y="1388880"/>
            <a:ext cx="7383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360288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15040" y="138888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15040" y="392940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B94-10CD-4940-80DD-6D43C1AC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5040" y="138888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31800" y="3929400"/>
            <a:ext cx="738360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2B7-9132-4244-922D-AB08A01D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738360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531800" y="3929400"/>
            <a:ext cx="738360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EBF-09B1-4FE6-B67C-515D632A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15040" y="138888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531800" y="392940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15040" y="392940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EA2E-9BAA-45CC-939B-0FF12589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237744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28400" y="1388880"/>
            <a:ext cx="237744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5360" y="1388880"/>
            <a:ext cx="237744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531800" y="3929400"/>
            <a:ext cx="237744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028400" y="3929400"/>
            <a:ext cx="237744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5360" y="3929400"/>
            <a:ext cx="237744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515-7A1A-476C-B23B-738EE252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738360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360288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15040" y="1388880"/>
            <a:ext cx="360288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533240" y="236160"/>
            <a:ext cx="73818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5040" y="1388880"/>
            <a:ext cx="360288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31800" y="392940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360288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15040" y="138888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15040" y="392940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15040" y="138888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31800" y="3929400"/>
            <a:ext cx="738360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8640" y="1214280"/>
            <a:ext cx="8277480" cy="0"/>
          </a:xfrm>
          <a:prstGeom prst="line">
            <a:avLst/>
          </a:prstGeom>
          <a:ln w="2232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31800" y="1388880"/>
            <a:ext cx="738360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2" marL="1244520" indent="-29196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SzPct val="80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3" marL="1714680" indent="-1908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4" marL="2095560" indent="-1904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"/>
              <a:buChar char="»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5" marL="2095560" indent="-1904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"/>
              <a:buChar char="»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6" marL="2095560" indent="-1904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"/>
              <a:buChar char="»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46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-1114560" y="1104840"/>
            <a:ext cx="777960" cy="719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114560" y="2171880"/>
            <a:ext cx="777960" cy="718920"/>
          </a:xfrm>
          <a:prstGeom prst="ellipse">
            <a:avLst/>
          </a:prstGeom>
          <a:solidFill>
            <a:srgbClr val="001e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14560" y="3162240"/>
            <a:ext cx="777960" cy="719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1114560" y="4152960"/>
            <a:ext cx="777960" cy="7189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114560" y="4991040"/>
            <a:ext cx="777960" cy="71928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194840" y="2311560"/>
            <a:ext cx="777960" cy="718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0194840" y="1244520"/>
            <a:ext cx="777960" cy="719280"/>
          </a:xfrm>
          <a:prstGeom prst="ellipse">
            <a:avLst/>
          </a:prstGeom>
          <a:solidFill>
            <a:srgbClr val="bdc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94840" y="4292640"/>
            <a:ext cx="777960" cy="7189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0194840" y="3301920"/>
            <a:ext cx="777960" cy="71928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0194840" y="5130720"/>
            <a:ext cx="777960" cy="71928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8920" y="6324480"/>
            <a:ext cx="113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1e64"/>
                </a:solidFill>
                <a:latin typeface="Arial Narrow"/>
              </a:rPr>
              <a:t>Dr. Gernot Loibnegger</a:t>
            </a:r>
            <a:endParaRPr b="0" lang="en-US" sz="800" spc="-1" strike="noStrike">
              <a:solidFill>
                <a:srgbClr val="001e6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1e64"/>
                </a:solidFill>
                <a:latin typeface="Arial Narrow"/>
              </a:rPr>
              <a:t>Mobilitätsteam</a:t>
            </a:r>
            <a:endParaRPr b="0" lang="en-US" sz="800" spc="-1" strike="noStrike">
              <a:solidFill>
                <a:srgbClr val="001e6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1e64"/>
                </a:solidFill>
                <a:latin typeface="Arial Narrow"/>
              </a:rPr>
              <a:t>09/2003, Page </a:t>
            </a:r>
            <a:fld id="{B745FCA9-95E8-421D-8698-CDE6B582D104}" type="slidenum">
              <a:rPr b="0" lang="en-US" sz="800" spc="-1" strike="noStrike">
                <a:solidFill>
                  <a:srgbClr val="001e64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D9ED-460D-4B9C-A62A-78BB79624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image" Target="../media/image37.jpeg"/><Relationship Id="rId17" Type="http://schemas.openxmlformats.org/officeDocument/2006/relationships/image" Target="../media/image38.png"/><Relationship Id="rId18" Type="http://schemas.openxmlformats.org/officeDocument/2006/relationships/image" Target="../media/image39.png"/><Relationship Id="rId19" Type="http://schemas.openxmlformats.org/officeDocument/2006/relationships/image" Target="../media/image40.png"/><Relationship Id="rId20" Type="http://schemas.openxmlformats.org/officeDocument/2006/relationships/image" Target="../media/image41.png"/><Relationship Id="rId21" Type="http://schemas.openxmlformats.org/officeDocument/2006/relationships/image" Target="../media/image42.png"/><Relationship Id="rId22" Type="http://schemas.openxmlformats.org/officeDocument/2006/relationships/image" Target="../media/image43.png"/><Relationship Id="rId23" Type="http://schemas.openxmlformats.org/officeDocument/2006/relationships/image" Target="../media/image44.png"/><Relationship Id="rId24" Type="http://schemas.openxmlformats.org/officeDocument/2006/relationships/image" Target="../media/image45.jpeg"/><Relationship Id="rId25" Type="http://schemas.openxmlformats.org/officeDocument/2006/relationships/image" Target="../media/image46.png"/><Relationship Id="rId26" Type="http://schemas.openxmlformats.org/officeDocument/2006/relationships/image" Target="../media/image47.png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36720" y="34225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5600" y="2286000"/>
            <a:ext cx="6781680" cy="459720"/>
          </a:xfrm>
          <a:prstGeom prst="rect">
            <a:avLst/>
          </a:prstGeom>
          <a:solidFill>
            <a:srgbClr val="0b4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e9f8"/>
                </a:solidFill>
                <a:latin typeface="Arial"/>
              </a:rPr>
              <a:t>11. Oktober 2004</a:t>
            </a: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0" r="0" b="6702"/>
          <a:stretch/>
        </p:blipFill>
        <p:spPr>
          <a:xfrm>
            <a:off x="5486400" y="228600"/>
            <a:ext cx="4191120" cy="250668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808080"/>
            </a:outerShdw>
          </a:effectLst>
        </p:spPr>
      </p:pic>
      <p:sp>
        <p:nvSpPr>
          <p:cNvPr id="96" name=""/>
          <p:cNvSpPr/>
          <p:nvPr/>
        </p:nvSpPr>
        <p:spPr>
          <a:xfrm>
            <a:off x="6862680" y="6329520"/>
            <a:ext cx="2870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1e64"/>
                </a:solidFill>
                <a:latin typeface="MetaNormal"/>
              </a:rPr>
              <a:t>N e v e r   s t o p   t h i n k i n g .</a:t>
            </a:r>
            <a:endParaRPr b="0" lang="en-US" sz="1500" spc="-1" strike="noStrike">
              <a:solidFill>
                <a:srgbClr val="001e64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947000" y="5383080"/>
            <a:ext cx="1641600" cy="722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44880" y="3860640"/>
            <a:ext cx="56163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e64"/>
                </a:solidFill>
                <a:latin typeface="Arial"/>
              </a:rPr>
              <a:t>Mobilität bei Infineon</a:t>
            </a:r>
            <a:endParaRPr b="0" lang="en-US" sz="4000" spc="-1" strike="noStrike">
              <a:solidFill>
                <a:srgbClr val="001e6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1e6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"/>
              </a:rPr>
              <a:t>Dr. Gernot Loibnegger</a:t>
            </a:r>
            <a:endParaRPr b="0" lang="en-US" sz="2800" spc="-1" strike="noStrike">
              <a:solidFill>
                <a:srgbClr val="001e6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"/>
              </a:rPr>
              <a:t>(Sprecher des Mobilitätsteams)</a:t>
            </a:r>
            <a:endParaRPr b="0" lang="en-US" sz="28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881360" y="1184400"/>
            <a:ext cx="19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2720" y="685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Verkehrsmittel</a:t>
            </a: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2289600"/>
            <a:ext cx="26114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Fahrrad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1375200"/>
            <a:ext cx="26114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Auto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2746800"/>
            <a:ext cx="26114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Motorrad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3204000"/>
            <a:ext cx="26114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ÖPNV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6640" y="3886200"/>
            <a:ext cx="2998440" cy="398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Verkehrsmittelanbindung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6640" y="4952880"/>
            <a:ext cx="3236400" cy="1008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Straßenbahn Linie 7/8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Bus Linie 77/87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Zug - Bahnhof in Klotzsche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43434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1e64"/>
          </a:solidFill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095880" y="3754440"/>
            <a:ext cx="3517920" cy="2265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581280" y="1832400"/>
            <a:ext cx="26114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Fahrgemeinschaften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600200" y="152280"/>
            <a:ext cx="7962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Infineon-Mobilitätsteam</a:t>
            </a:r>
            <a:endParaRPr b="0" lang="en-US" sz="2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47640" y="4673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31800" y="1389240"/>
            <a:ext cx="73836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rmAutofit/>
          </a:bodyPr>
          <a:p>
            <a:pPr marL="324000" indent="-324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2000" spc="-1" strike="noStrike">
                <a:solidFill>
                  <a:srgbClr val="001e64"/>
                </a:solidFill>
                <a:latin typeface="Arial"/>
              </a:rPr>
              <a:t>Gründung 1996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2000" spc="-1" strike="noStrike">
                <a:solidFill>
                  <a:srgbClr val="001e64"/>
                </a:solidFill>
                <a:latin typeface="Arial"/>
              </a:rPr>
              <a:t>10 feste Mitglieder aus unterschiedlichen Bereichen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2000" spc="-1" strike="noStrike">
                <a:solidFill>
                  <a:srgbClr val="001e64"/>
                </a:solidFill>
                <a:latin typeface="Arial"/>
              </a:rPr>
              <a:t>interne Unterstützung durch Betriebsleitung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2000" spc="-1" strike="noStrike">
                <a:solidFill>
                  <a:srgbClr val="001e64"/>
                </a:solidFill>
                <a:latin typeface="Arial"/>
              </a:rPr>
              <a:t>externe Unterstützung durch z.B. das Büro für integrierte Planung (BiP)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Zielsetzung des Mobilitätsteams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160" y="1773000"/>
            <a:ext cx="738324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Erhaltung und Verbesserung der Mobilität aller Mitarbeiter von Infineon Technologies Dresden mit Schwerpunkt der Lenkung auf öffentliche bzw. umweltfreundliche Verkehrsmittel 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Bewusstsein schaffen alternative Verkehrsmittel zu nutzen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systematische Vermeidung von Individualverkehr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möglichst geringe Belastung des städtebaulichen Umfelds am Standort Klotzsche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85520" y="30132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2301840" y="2276640"/>
            <a:ext cx="7391520" cy="38088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808080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teckbrief Infineon, Mobilitätsteam Zielsetzung und Konzept 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2997360"/>
            <a:ext cx="28908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01840" y="2976480"/>
            <a:ext cx="7391520" cy="381240"/>
          </a:xfrm>
          <a:prstGeom prst="rect">
            <a:avLst/>
          </a:prstGeom>
          <a:gradFill rotWithShape="0">
            <a:gsLst>
              <a:gs pos="0">
                <a:srgbClr val="001e64"/>
              </a:gs>
              <a:gs pos="100000">
                <a:srgbClr val="586c99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ßnahmen und Aktivitäten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4280" y="3645000"/>
            <a:ext cx="288720" cy="288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01840" y="3624120"/>
            <a:ext cx="7391520" cy="381240"/>
          </a:xfrm>
          <a:prstGeom prst="rect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Ergebnisse Mobilitätsbefragung 2003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4292640"/>
            <a:ext cx="289080" cy="288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4272120"/>
            <a:ext cx="7391520" cy="38088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808080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itarbeiternutzen / Unternehmensnutzen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4280" y="2349360"/>
            <a:ext cx="288720" cy="28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Durchgeführte Aktivitäten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12880" y="1341360"/>
            <a:ext cx="7383600" cy="5516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Jobticket 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Dusch- und Umkleidemöglichkeit für Radfahrer  / Trockenschränke für nasse Kleidung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Straßenbahnhaltestelle wurde nach Infineon benannt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Zwei Mobilitätsbefragungen / Umfrage Herkunft Fahrradfahrer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Fahrradcodierung / Fahrradworkshop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Neubau einer Fahrradabstellanlage und verbesserter Zugang für Fußgänger und Radfahrer am Nordeingang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Mobilitätstag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Schaffung Motorradparkplätze Nord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Mobilitätshomepage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Bedarfsgerechte Ampelschaltung an den Infineon Ausfahrten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Schränke für Motorradhelme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Aktuelle Aktivitäten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31440" y="1388880"/>
            <a:ext cx="8029800" cy="513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24000" indent="-324000"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1e64"/>
                </a:solidFill>
                <a:latin typeface="Arial"/>
              </a:rPr>
              <a:t>Neues Intranetportal für Fahrgemeinschaften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1e64"/>
                </a:solidFill>
                <a:latin typeface="Arial"/>
              </a:rPr>
              <a:t>Verbesserung der Verhaltenskultur im Parkhaus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1e64"/>
                </a:solidFill>
                <a:latin typeface="Arial"/>
              </a:rPr>
              <a:t>Bemühung um attraktive ÖPNV-Verbindungen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1e64"/>
                </a:solidFill>
                <a:latin typeface="Arial"/>
              </a:rPr>
              <a:t>Verbesserungen der Sicherheit bei den Infineon-Ausfahrten (insbesondere neue Ampelschaltungen)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1e64"/>
                </a:solidFill>
                <a:latin typeface="Arial"/>
              </a:rPr>
              <a:t>Etablierung eines Car-Sharings für Mitarbeiter 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1e64"/>
                </a:solidFill>
                <a:latin typeface="Arial"/>
              </a:rPr>
              <a:t>Umsetzung von Ergebnissen der Mobilitätsbefragung 2003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1e64"/>
                </a:solidFill>
                <a:latin typeface="Arial"/>
              </a:rPr>
              <a:t>Errichtung einer weiteren Fahrradabstellanlage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1e64"/>
                </a:solidFill>
                <a:latin typeface="Arial"/>
              </a:rPr>
              <a:t>Fahrradcodierung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DE" sz="1600" spc="-1" strike="noStrike">
                <a:solidFill>
                  <a:srgbClr val="001e64"/>
                </a:solidFill>
                <a:latin typeface="Arial"/>
              </a:rPr>
              <a:t>Geplante Aktivitäten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1e64"/>
                </a:solidFill>
                <a:latin typeface="Arial"/>
              </a:rPr>
              <a:t>Einführung eines neuen „Infineon Jobtickets" 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1e64"/>
                </a:solidFill>
                <a:latin typeface="Arial"/>
              </a:rPr>
              <a:t>Pilotprojekt "Schichtbus" 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1e64"/>
                </a:solidFill>
                <a:latin typeface="Arial"/>
              </a:rPr>
              <a:t>Parkraumbewirtschaftungsprojekt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824520" y="5084640"/>
          <a:ext cx="1814760" cy="11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4520" y="5084640"/>
                    <a:ext cx="18147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3240" y="49968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1e64"/>
                </a:solidFill>
                <a:latin typeface="Arial Narrow"/>
              </a:rPr>
              <a:t>Information, Beratung, Organisation</a:t>
            </a:r>
            <a:br>
              <a:rPr sz="2400"/>
            </a:br>
            <a:endParaRPr b="0" lang="en-US" sz="24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738360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2000" spc="-1" strike="noStrike">
                <a:solidFill>
                  <a:srgbClr val="001e64"/>
                </a:solidFill>
                <a:latin typeface="Arial"/>
              </a:rPr>
              <a:t>Mobilitätsbefragungen 1996 (SIMEC), 1999 (VVO) und 2003 (BiP)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2000" spc="-1" strike="noStrike">
                <a:solidFill>
                  <a:srgbClr val="001e64"/>
                </a:solidFill>
                <a:latin typeface="Arial"/>
              </a:rPr>
              <a:t>Mobilitätstag mit persönlicher Mobilitätsberatung (Okt. 2000 und Sept. 2004)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2000" spc="-1" strike="noStrike">
                <a:solidFill>
                  <a:srgbClr val="001e64"/>
                </a:solidFill>
                <a:latin typeface="Arial"/>
              </a:rPr>
              <a:t>Wohnstandortberatung bei Neueinstellung 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2000" spc="-1" strike="noStrike">
                <a:solidFill>
                  <a:srgbClr val="001e64"/>
                </a:solidFill>
                <a:latin typeface="Arial"/>
              </a:rPr>
              <a:t>Information (Intranet, Ausstellung, Flyer, Betriebsversammlung...)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2000" spc="-1" strike="noStrike">
                <a:solidFill>
                  <a:srgbClr val="001e64"/>
                </a:solidFill>
                <a:latin typeface="Arial"/>
              </a:rPr>
              <a:t>Zahlreiche Arbeitstreffen mit der Stadtverwaltung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2000" spc="-1" strike="noStrike">
                <a:solidFill>
                  <a:srgbClr val="001e64"/>
                </a:solidFill>
                <a:latin typeface="Arial"/>
              </a:rPr>
              <a:t>Ergänzende Maßnahmen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8229600" cy="5410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600200" y="152280"/>
            <a:ext cx="7962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Fahrradförderung</a:t>
            </a:r>
            <a:endParaRPr b="0" lang="en-US" sz="2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47640" y="4673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1219320"/>
            <a:ext cx="73836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rmAutofit/>
          </a:bodyPr>
          <a:p>
            <a:pPr marL="324000" indent="-32400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Durchführung von Fahrradworkshops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große überdachte Fahrradständer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Bau weiterer Fahrradständer mit Absperrbügeln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Wohnortbefragung der Fahrradfahrer, um gezielt den Bedarf für Fahrwege/Routen zu ermitteln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Duschmöglichkeit und Umziehmöglichkeit im Werk 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Trockenschränke für nasse Kleidung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Fahrradcodieraktion mit der Verkehrswacht Dresden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Mitarbeiteraktion für verbilligte Fahrräder 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ÖPNV-Förderung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96880" y="1557360"/>
            <a:ext cx="7383600" cy="2355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24000" indent="-32400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800" spc="-1" strike="noStrike">
                <a:solidFill>
                  <a:srgbClr val="001e64"/>
                </a:solidFill>
                <a:latin typeface="Arial"/>
              </a:rPr>
              <a:t>Fahrplanverbesserungen (Bus, S-Bahn, Drehscheibe Bf. Klotzsche)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800" spc="-1" strike="noStrike">
                <a:solidFill>
                  <a:srgbClr val="001e64"/>
                </a:solidFill>
                <a:latin typeface="Arial"/>
              </a:rPr>
              <a:t>Straßenbahnbeschleunigung Königsbrücker Straße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800" spc="-1" strike="noStrike">
                <a:solidFill>
                  <a:srgbClr val="001e64"/>
                </a:solidFill>
                <a:latin typeface="Arial"/>
              </a:rPr>
              <a:t>Pilotprojekt „Infineon-Ticket“ und 10% Zuschuss zum</a:t>
            </a:r>
            <a:br>
              <a:rPr sz="1800"/>
            </a:br>
            <a:r>
              <a:rPr b="0" lang="de-DE" sz="1800" spc="-1" strike="noStrike">
                <a:solidFill>
                  <a:srgbClr val="001e64"/>
                </a:solidFill>
                <a:latin typeface="Arial"/>
              </a:rPr>
              <a:t>Normaltarif Monats- und Jahresabonnement</a:t>
            </a:r>
            <a:br>
              <a:rPr sz="1800"/>
            </a:br>
            <a:r>
              <a:rPr b="0" lang="de-DE" sz="1800" spc="-1" strike="noStrike">
                <a:solidFill>
                  <a:srgbClr val="001e64"/>
                </a:solidFill>
                <a:latin typeface="Arial"/>
              </a:rPr>
              <a:t>(Nov. 2000 – Okt. 2001)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816520" y="3573360"/>
            <a:ext cx="3657600" cy="2355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496880" y="3357720"/>
            <a:ext cx="4104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marL="324000" indent="-3240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Fahrplanaushänge, Auskunft über Internet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Abstimmung Schichtzeiten mit ÖPNV-Fahrplan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Neues Infineon Job Ticket in Vorbereitung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VVO Terminal im Werk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85520" y="30132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2301840" y="2276640"/>
            <a:ext cx="7391520" cy="38088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808080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teckbrief Infineon, Mobilitätsteam Zielsetzung und Konzept 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2997360"/>
            <a:ext cx="289080" cy="288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01840" y="2976480"/>
            <a:ext cx="7391520" cy="38124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808080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aßnahmen und Aktivitäten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54280" y="3645000"/>
            <a:ext cx="28872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01840" y="3624120"/>
            <a:ext cx="7391520" cy="381240"/>
          </a:xfrm>
          <a:prstGeom prst="rect">
            <a:avLst/>
          </a:prstGeom>
          <a:gradFill rotWithShape="0">
            <a:gsLst>
              <a:gs pos="0">
                <a:srgbClr val="001e64"/>
              </a:gs>
              <a:gs pos="100000">
                <a:srgbClr val="586c99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gebnisse Mobilitätsbefragung 2003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4292640"/>
            <a:ext cx="289080" cy="288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0" y="4272120"/>
            <a:ext cx="7391520" cy="38088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808080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itarbeiternutzen / Unternehmensnutzen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4280" y="2349360"/>
            <a:ext cx="288720" cy="28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85520" y="30132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800" spc="-1" strike="noStrike">
                <a:solidFill>
                  <a:srgbClr val="001e64"/>
                </a:solidFill>
                <a:latin typeface="Arial Narrow"/>
              </a:rPr>
              <a:t>Inhaltsverzeichnis</a:t>
            </a: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2347920"/>
            <a:ext cx="289080" cy="2890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2276640"/>
            <a:ext cx="7391520" cy="380880"/>
          </a:xfrm>
          <a:prstGeom prst="rect">
            <a:avLst/>
          </a:prstGeom>
          <a:gradFill rotWithShape="0">
            <a:gsLst>
              <a:gs pos="0">
                <a:srgbClr val="001e64"/>
              </a:gs>
              <a:gs pos="100000">
                <a:srgbClr val="586c99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ckbrief Infineon, Mobilitätsteam Zielsetzung und Konzept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2997360"/>
            <a:ext cx="289080" cy="288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01840" y="2997360"/>
            <a:ext cx="7391520" cy="380880"/>
          </a:xfrm>
          <a:prstGeom prst="rect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aßnahmen und Aktivitäten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645000"/>
            <a:ext cx="289080" cy="288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01840" y="3624120"/>
            <a:ext cx="7391520" cy="381240"/>
          </a:xfrm>
          <a:prstGeom prst="rect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Ergebnisse Mobilitätsbefragung 2003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4292640"/>
            <a:ext cx="289080" cy="288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4272120"/>
            <a:ext cx="7391520" cy="380880"/>
          </a:xfrm>
          <a:prstGeom prst="rect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itarbeiternutzen / Unternehmensnutzen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33240" y="57132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001e64"/>
                </a:solidFill>
                <a:latin typeface="Arial Narrow"/>
              </a:rPr>
              <a:t>Entwicklung des Modal Split der Beschäftigten insgesamt von 1996 - 2003</a:t>
            </a:r>
            <a:br>
              <a:rPr sz="2400"/>
            </a:br>
            <a:endParaRPr b="0" lang="en-US" sz="2400" spc="-1" strike="noStrike">
              <a:solidFill>
                <a:srgbClr val="001e64"/>
              </a:solidFill>
              <a:latin typeface="Arial Narrow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31800" y="1389240"/>
          <a:ext cx="7383240" cy="4863600"/>
        </p:xfrm>
        <a:graphic>
          <a:graphicData uri="http://schemas.openxmlformats.org/drawingml/2006/table">
            <a:tbl>
              <a:tblPr/>
              <a:tblGrid>
                <a:gridCol w="2321640"/>
                <a:gridCol w="1226160"/>
                <a:gridCol w="1357200"/>
                <a:gridCol w="2478240"/>
              </a:tblGrid>
              <a:tr h="11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1e64"/>
                      </a:solidFill>
                    </a:lnL>
                    <a:lnR w="9360">
                      <a:solidFill>
                        <a:srgbClr val="001e64"/>
                      </a:solidFill>
                    </a:lnR>
                    <a:lnT w="288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Anteil 1996 </a:t>
                      </a:r>
                      <a:endParaRPr b="0" lang="en-US" sz="16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1e64"/>
                      </a:solidFill>
                    </a:lnL>
                    <a:lnR w="5760">
                      <a:solidFill>
                        <a:srgbClr val="001e64"/>
                      </a:solidFill>
                    </a:lnR>
                    <a:lnT w="936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Anteil  2003</a:t>
                      </a:r>
                      <a:endParaRPr b="0" lang="en-US" sz="16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1e64"/>
                      </a:solidFill>
                    </a:lnL>
                    <a:lnR w="9360">
                      <a:solidFill>
                        <a:srgbClr val="001e64"/>
                      </a:solidFill>
                    </a:lnR>
                    <a:lnT w="936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Relative Veränderung</a:t>
                      </a:r>
                      <a:endParaRPr b="0" lang="en-US" sz="16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1996 </a:t>
                      </a: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 2003 </a:t>
                      </a:r>
                      <a:r>
                        <a:rPr b="0" lang="en-US" sz="10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1e64"/>
                      </a:solidFill>
                    </a:lnL>
                    <a:lnR w="9360">
                      <a:solidFill>
                        <a:srgbClr val="001e64"/>
                      </a:solidFill>
                    </a:lnR>
                    <a:lnT w="936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zu Fuß</a:t>
                      </a:r>
                      <a:endParaRPr b="0" lang="en-US" sz="16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1e64"/>
                      </a:solidFill>
                    </a:lnL>
                    <a:lnR w="93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  <a:tc>
                  <a:txBody>
                    <a:bodyPr lIns="90000" rIns="2286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228600">
                    <a:lnL w="9360">
                      <a:solidFill>
                        <a:srgbClr val="001e64"/>
                      </a:solidFill>
                    </a:lnL>
                    <a:lnR w="57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  <a:tc>
                  <a:txBody>
                    <a:bodyPr lIns="90000" rIns="2286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228600">
                    <a:lnL w="5760">
                      <a:solidFill>
                        <a:srgbClr val="001e64"/>
                      </a:solidFill>
                    </a:lnL>
                    <a:lnR w="93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  <a:tc>
                  <a:txBody>
                    <a:bodyPr lIns="90000" rIns="38088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380880">
                    <a:lnL w="9360">
                      <a:solidFill>
                        <a:srgbClr val="001e64"/>
                      </a:solidFill>
                    </a:lnL>
                    <a:lnR w="93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</a:tr>
              <a:tr h="69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Fahrrad</a:t>
                      </a:r>
                      <a:endParaRPr b="0" lang="en-US" sz="16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1e64"/>
                      </a:solidFill>
                    </a:lnL>
                    <a:lnR w="93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  <a:tc>
                  <a:txBody>
                    <a:bodyPr lIns="90000" rIns="2286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228600">
                    <a:lnL w="9360">
                      <a:solidFill>
                        <a:srgbClr val="001e64"/>
                      </a:solidFill>
                    </a:lnL>
                    <a:lnR w="57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  <a:tc>
                  <a:txBody>
                    <a:bodyPr lIns="90000" rIns="2286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228600">
                    <a:lnL w="5760">
                      <a:solidFill>
                        <a:srgbClr val="001e64"/>
                      </a:solidFill>
                    </a:lnL>
                    <a:lnR w="93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  <a:tc>
                  <a:txBody>
                    <a:bodyPr lIns="90000" rIns="38088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+ 16 %</a:t>
                      </a:r>
                      <a:endParaRPr b="0" lang="en-US" sz="24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380880">
                    <a:lnL w="9360">
                      <a:solidFill>
                        <a:srgbClr val="001e64"/>
                      </a:solidFill>
                    </a:lnL>
                    <a:lnR w="93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ÖPNV</a:t>
                      </a:r>
                      <a:endParaRPr b="0" lang="en-US" sz="16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1e64"/>
                      </a:solidFill>
                    </a:lnL>
                    <a:lnR w="93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  <a:tc>
                  <a:txBody>
                    <a:bodyPr lIns="90000" rIns="2286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228600">
                    <a:lnL w="9360">
                      <a:solidFill>
                        <a:srgbClr val="001e64"/>
                      </a:solidFill>
                    </a:lnL>
                    <a:lnR w="57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  <a:tc>
                  <a:txBody>
                    <a:bodyPr lIns="90000" rIns="2286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228600">
                    <a:lnL w="5760">
                      <a:solidFill>
                        <a:srgbClr val="001e64"/>
                      </a:solidFill>
                    </a:lnL>
                    <a:lnR w="93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  <a:tc>
                  <a:txBody>
                    <a:bodyPr lIns="90000" rIns="38088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+ 14 %</a:t>
                      </a:r>
                      <a:endParaRPr b="0" lang="en-US" sz="24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380880">
                    <a:lnL w="9360">
                      <a:solidFill>
                        <a:srgbClr val="001e64"/>
                      </a:solidFill>
                    </a:lnL>
                    <a:lnR w="93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</a:tr>
              <a:tr h="79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Pkw-Selbstfahrer </a:t>
                      </a:r>
                      <a:r>
                        <a:rPr b="0" lang="en-US" sz="10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1e64"/>
                      </a:solidFill>
                    </a:lnL>
                    <a:lnR w="93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  <a:tc>
                  <a:txBody>
                    <a:bodyPr lIns="90000" rIns="2286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228600">
                    <a:lnL w="9360">
                      <a:solidFill>
                        <a:srgbClr val="001e64"/>
                      </a:solidFill>
                    </a:lnL>
                    <a:lnR w="57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  <a:tc>
                  <a:txBody>
                    <a:bodyPr lIns="90000" rIns="2286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228600">
                    <a:lnL w="5760">
                      <a:solidFill>
                        <a:srgbClr val="001e64"/>
                      </a:solidFill>
                    </a:lnL>
                    <a:lnR w="93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  <a:tc>
                  <a:txBody>
                    <a:bodyPr lIns="90000" rIns="38088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13 %</a:t>
                      </a:r>
                      <a:endParaRPr b="0" lang="en-US" sz="24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380880">
                    <a:lnL w="9360">
                      <a:solidFill>
                        <a:srgbClr val="001e64"/>
                      </a:solidFill>
                    </a:lnL>
                    <a:lnR w="93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5760">
                      <a:solidFill>
                        <a:srgbClr val="001e64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Pkw-Mitfahrer </a:t>
                      </a:r>
                      <a:r>
                        <a:rPr b="0" lang="en-US" sz="10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1e64"/>
                      </a:solidFill>
                    </a:lnL>
                    <a:lnR w="93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2880">
                      <a:solidFill>
                        <a:srgbClr val="001e64"/>
                      </a:solidFill>
                    </a:lnB>
                    <a:noFill/>
                  </a:tcPr>
                </a:tc>
                <a:tc>
                  <a:txBody>
                    <a:bodyPr lIns="90000" rIns="2286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228600">
                    <a:lnL w="9360">
                      <a:solidFill>
                        <a:srgbClr val="001e64"/>
                      </a:solidFill>
                    </a:lnL>
                    <a:lnR w="57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9360">
                      <a:solidFill>
                        <a:srgbClr val="001e64"/>
                      </a:solidFill>
                    </a:lnB>
                    <a:noFill/>
                  </a:tcPr>
                </a:tc>
                <a:tc>
                  <a:txBody>
                    <a:bodyPr lIns="90000" rIns="2286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e64"/>
                          </a:solidFill>
                          <a:latin typeface="Arial"/>
                        </a:rPr>
                        <a:t>9%</a:t>
                      </a:r>
                      <a:endParaRPr b="0" lang="en-US" sz="16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228600">
                    <a:lnL w="5760">
                      <a:solidFill>
                        <a:srgbClr val="001e64"/>
                      </a:solidFill>
                    </a:lnL>
                    <a:lnR w="93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9360">
                      <a:solidFill>
                        <a:srgbClr val="001e64"/>
                      </a:solidFill>
                    </a:lnB>
                    <a:noFill/>
                  </a:tcPr>
                </a:tc>
                <a:tc>
                  <a:txBody>
                    <a:bodyPr lIns="90000" rIns="38088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+ 76 %</a:t>
                      </a:r>
                      <a:endParaRPr b="0" lang="en-US" sz="2400" spc="-1" strike="noStrike">
                        <a:solidFill>
                          <a:srgbClr val="001e64"/>
                        </a:solidFill>
                        <a:latin typeface="Times New Roman"/>
                      </a:endParaRPr>
                    </a:p>
                  </a:txBody>
                  <a:tcPr anchor="ctr" marL="90000" marR="380880">
                    <a:lnL w="9360">
                      <a:solidFill>
                        <a:srgbClr val="001e64"/>
                      </a:solidFill>
                    </a:lnL>
                    <a:lnR w="9360">
                      <a:solidFill>
                        <a:srgbClr val="001e64"/>
                      </a:solidFill>
                    </a:lnR>
                    <a:lnT w="5760">
                      <a:solidFill>
                        <a:srgbClr val="001e64"/>
                      </a:solidFill>
                    </a:lnT>
                    <a:lnB w="9360">
                      <a:solidFill>
                        <a:srgbClr val="001e6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33240" y="188640"/>
            <a:ext cx="83725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Entwicklung der Verkehrsmittelnutzung für den Arbeitsweg</a:t>
            </a:r>
            <a:br>
              <a:rPr sz="2400"/>
            </a:br>
            <a:r>
              <a:rPr b="0" lang="en-US" sz="2000" spc="-1" strike="noStrike">
                <a:solidFill>
                  <a:srgbClr val="000066"/>
                </a:solidFill>
                <a:latin typeface="Arial Narrow"/>
              </a:rPr>
              <a:t>Beschäftigte Infineon Dresden insgesamt 1996 – 2003</a:t>
            </a:r>
            <a:endParaRPr b="0" lang="en-US" sz="2000" spc="-1" strike="noStrike">
              <a:solidFill>
                <a:srgbClr val="001e64"/>
              </a:solidFill>
              <a:latin typeface="Arial Narrow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531800" y="3000240"/>
          <a:ext cx="738360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3000240"/>
                    <a:ext cx="73836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869480" y="1589040"/>
            <a:ext cx="4915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e64"/>
                </a:solidFill>
                <a:latin typeface="Arial Narrow"/>
              </a:rPr>
              <a:t>- </a:t>
            </a:r>
            <a:r>
              <a:rPr b="1" lang="en-US" sz="1800" spc="-1" strike="noStrike">
                <a:solidFill>
                  <a:srgbClr val="001e64"/>
                </a:solidFill>
                <a:latin typeface="Arial Narrow"/>
              </a:rPr>
              <a:t>Reduzierung der MIV-Selbstfahrer von 68% auf 59%</a:t>
            </a:r>
            <a:br>
              <a:rPr sz="1800"/>
            </a:br>
            <a:r>
              <a:rPr b="1" lang="en-US" sz="1800" spc="-1" strike="noStrike">
                <a:solidFill>
                  <a:srgbClr val="001e64"/>
                </a:solidFill>
                <a:latin typeface="Arial Narrow"/>
              </a:rPr>
              <a:t>- Anstieg der Fahrgemeinschaften von 5% auf 9%</a:t>
            </a:r>
            <a:br>
              <a:rPr sz="1800"/>
            </a:br>
            <a:r>
              <a:rPr b="1" lang="en-US" sz="1800" spc="-1" strike="noStrike">
                <a:solidFill>
                  <a:srgbClr val="001e64"/>
                </a:solidFill>
                <a:latin typeface="Arial Narrow"/>
              </a:rPr>
              <a:t>- Zunahme von Radnutzung und ÖPNV</a:t>
            </a:r>
            <a:br>
              <a:rPr sz="1800"/>
            </a:b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08080" y="28526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u Fuß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10960" y="321300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Fahrrad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32920" y="35971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ÖPNV-Nutzer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43000" y="402264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PKW / Motorrad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- Mitfahrer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98360" y="4935600"/>
            <a:ext cx="16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PKW / Motorrad-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elbstfahrer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83725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Entwicklung der Verkehrsmittelnutzung für den Arbeitsweg</a:t>
            </a:r>
            <a:br>
              <a:rPr sz="2400"/>
            </a:br>
            <a:r>
              <a:rPr b="0" lang="en-US" sz="2000" spc="-1" strike="noStrike">
                <a:solidFill>
                  <a:srgbClr val="000066"/>
                </a:solidFill>
                <a:latin typeface="Arial Narrow"/>
              </a:rPr>
              <a:t>Beschäftigte Infineon Dresden mit Gleitzeitregelung 1996 – 2003</a:t>
            </a: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52" name=""/>
          <p:cNvSpPr/>
          <p:nvPr/>
        </p:nvSpPr>
        <p:spPr>
          <a:xfrm>
            <a:off x="1892160" y="1589040"/>
            <a:ext cx="5402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e64"/>
                </a:solidFill>
                <a:latin typeface="Arial Narrow"/>
              </a:rPr>
              <a:t>- </a:t>
            </a:r>
            <a:r>
              <a:rPr b="1" lang="en-US" sz="1800" spc="-1" strike="noStrike">
                <a:solidFill>
                  <a:srgbClr val="001e64"/>
                </a:solidFill>
                <a:latin typeface="Arial Narrow"/>
              </a:rPr>
              <a:t>Rückgang des MIV-Selbstfahrer-Anteils von 59% auf 47%</a:t>
            </a:r>
            <a:br>
              <a:rPr sz="1800"/>
            </a:br>
            <a:r>
              <a:rPr b="1" lang="en-US" sz="1800" spc="-1" strike="noStrike">
                <a:solidFill>
                  <a:srgbClr val="001e64"/>
                </a:solidFill>
                <a:latin typeface="Arial Narrow"/>
              </a:rPr>
              <a:t>- Anstieg der Fahrradnutzung von 20% auf 28%</a:t>
            </a:r>
            <a:br>
              <a:rPr sz="1800"/>
            </a:br>
            <a:r>
              <a:rPr b="1" lang="en-US" sz="1800" spc="-1" strike="noStrike">
                <a:solidFill>
                  <a:srgbClr val="001e64"/>
                </a:solidFill>
                <a:latin typeface="Arial Narrow"/>
              </a:rPr>
              <a:t>- Zunahme des ÖPNV-Anteils von 18% auf 22%</a:t>
            </a:r>
            <a:br>
              <a:rPr sz="1800"/>
            </a:b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600200" y="2781360"/>
          <a:ext cx="738180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781360"/>
                    <a:ext cx="73818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7410960" y="321300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Fahrrad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408080" y="27813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u Fuß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32920" y="366876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ÖPNV-Nutzer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43000" y="402264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PKW / Motorrad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- Mitfahrer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98360" y="4935600"/>
            <a:ext cx="16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PKW / Motorrad-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elbstfahrer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83725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400" spc="-1" strike="noStrike">
                <a:solidFill>
                  <a:srgbClr val="001e64"/>
                </a:solidFill>
                <a:latin typeface="Arial Narrow"/>
              </a:rPr>
              <a:t>Die Verkehrsmittelnutzung für den Arbeitsweg</a:t>
            </a:r>
            <a:br>
              <a:rPr sz="2400"/>
            </a:br>
            <a:r>
              <a:rPr b="0" lang="en-US" sz="2000" spc="-1" strike="noStrike">
                <a:solidFill>
                  <a:srgbClr val="001e64"/>
                </a:solidFill>
                <a:latin typeface="Arial Narrow"/>
              </a:rPr>
              <a:t>Beschäftigte Infineon Dresden insgesamt nach Wohnstandort 2003</a:t>
            </a:r>
            <a:endParaRPr b="0" lang="en-US" sz="2000" spc="-1" strike="noStrike">
              <a:solidFill>
                <a:srgbClr val="001e64"/>
              </a:solidFill>
              <a:latin typeface="Arial Narrow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531800" y="2271600"/>
          <a:ext cx="7383600" cy="30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2271600"/>
                    <a:ext cx="7383600" cy="30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3240" y="49968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001e64"/>
                </a:solidFill>
                <a:latin typeface="Arial Narrow"/>
              </a:rPr>
              <a:t>Bewertung ausgewählter Maßnahmen durch die</a:t>
            </a:r>
            <a:br>
              <a:rPr sz="2400"/>
            </a:br>
            <a:r>
              <a:rPr b="0" lang="en-US" sz="2400" spc="-1" strike="noStrike">
                <a:solidFill>
                  <a:srgbClr val="001e64"/>
                </a:solidFill>
                <a:latin typeface="Arial Narrow"/>
              </a:rPr>
              <a:t>Mitarbeiter mit gut und sehr gut:</a:t>
            </a:r>
            <a:br>
              <a:rPr sz="2400"/>
            </a:br>
            <a:endParaRPr b="0" lang="en-US" sz="24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738360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24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ÖPNV-Fahrplanaushang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	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	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88 %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Aktion Fahrradregistrierung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	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	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85 %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Neubau Fahrradabstellanlage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	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	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84 % 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10% Zuschuss zum ÖPNV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	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	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79 %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Fahrradworkshop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	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	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	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74 %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Neue Organisation im Parkhaus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	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73 %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Mobilitätstag mit Beratung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	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	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69 %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Online-Shopping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	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	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	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54 %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Parkkralle gegen Falschparker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	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	</a:t>
            </a:r>
            <a:r>
              <a:rPr b="0" lang="en-US" sz="2000" spc="-1" strike="noStrike">
                <a:solidFill>
                  <a:srgbClr val="001e64"/>
                </a:solidFill>
                <a:latin typeface="Humnst777 BT"/>
              </a:rPr>
              <a:t>42 %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33240" y="64260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001e64"/>
                </a:solidFill>
                <a:latin typeface="Arial Narrow"/>
              </a:rPr>
              <a:t>Das Mobilitätsmanagement leistet einen deutlichen Beitrag zur Emissionseinsparung</a:t>
            </a:r>
            <a:br>
              <a:rPr sz="2400"/>
            </a:br>
            <a:endParaRPr b="0" lang="en-US" sz="24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86080" y="1371240"/>
            <a:ext cx="806904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24000" indent="-324000">
              <a:spcBef>
                <a:spcPts val="601"/>
              </a:spcBef>
              <a:spcAft>
                <a:spcPts val="60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Allein in 2003 wurden fast 7 Mio. MIV-Kilometer</a:t>
            </a:r>
            <a:br>
              <a:rPr sz="2400"/>
            </a:b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eingespart</a:t>
            </a:r>
            <a:endParaRPr b="0" lang="en-US" sz="24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spcAft>
                <a:spcPts val="60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Im Durchschnitt je Beschäftigtem ist die jährliche CO2-Emission für den Arbeitsweg von 1996 bis 2003 um 18 Prozent gesunken</a:t>
            </a:r>
            <a:endParaRPr b="0" lang="en-US" sz="24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spcAft>
                <a:spcPts val="60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Für 2003 beträgt die CO2 – Einsparung ca. 1.280 t.</a:t>
            </a:r>
            <a:br>
              <a:rPr sz="2400"/>
            </a:b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Je Beschäftigtem sind dies im Durchschnitt fast 280 kg</a:t>
            </a:r>
            <a:endParaRPr b="0" lang="en-US" sz="24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85520" y="30132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68" name=""/>
          <p:cNvSpPr/>
          <p:nvPr/>
        </p:nvSpPr>
        <p:spPr>
          <a:xfrm>
            <a:off x="2301840" y="2276640"/>
            <a:ext cx="7391520" cy="38088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808080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teckbrief Infineon, Mobilitätsteam Zielsetzung und Konzept 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52480" y="2997360"/>
            <a:ext cx="289080" cy="288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01840" y="2976480"/>
            <a:ext cx="7391520" cy="38124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808080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aßnahmen und Aktivitäten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4280" y="3645000"/>
            <a:ext cx="288720" cy="288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01840" y="3624120"/>
            <a:ext cx="7391520" cy="38124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808080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Ergebnisse Mobilitätsbefragung 2003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4292640"/>
            <a:ext cx="28908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4272120"/>
            <a:ext cx="7391520" cy="380880"/>
          </a:xfrm>
          <a:prstGeom prst="rect">
            <a:avLst/>
          </a:prstGeom>
          <a:gradFill rotWithShape="0">
            <a:gsLst>
              <a:gs pos="0">
                <a:srgbClr val="001e64"/>
              </a:gs>
              <a:gs pos="100000">
                <a:srgbClr val="586c99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tarbeiternutzen / Unternehmensnutzen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54280" y="2349360"/>
            <a:ext cx="288720" cy="28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Materieller Nutzen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738360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240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1e64"/>
                </a:solidFill>
                <a:latin typeface="Arial"/>
              </a:rPr>
              <a:t>Direkter materieller Nutzen für Beschäftigte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Senkung der Fahrtkosten zum Arbeitsplatz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Geringere Unfall- und Unfallfolgekosten</a:t>
            </a:r>
            <a:br>
              <a:rPr sz="1600"/>
            </a:b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1e64"/>
                </a:solidFill>
                <a:latin typeface="Arial"/>
              </a:rPr>
              <a:t>Direkter materieller Nutzen für das 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1e64"/>
                </a:solidFill>
                <a:latin typeface="Arial"/>
              </a:rPr>
              <a:t>Unternehmen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Geringerer Aufwand für Bau, Unterhalt und Betrieb von eigenen Parkplätzen und Erschließungsstraßen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Indirekter Nutzen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738360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2400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1e64"/>
                </a:solidFill>
                <a:latin typeface="Arial"/>
              </a:rPr>
              <a:t>Indirekter Nutzen für Beschäftigte: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Bessere Gesundheit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Höhere Fitness und Zufriedenheit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Mitgestaltung betrieblicher Infrastruktur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Weniger Stress auf dem Arbeitsweg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Sonstiger Zusatznutzen (z.B. Zeiteinsparung)</a:t>
            </a:r>
            <a:br>
              <a:rPr sz="1600"/>
            </a:b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1e64"/>
                </a:solidFill>
                <a:latin typeface="Arial"/>
              </a:rPr>
              <a:t>Indirekter Nutzen für das Unternehmen: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Geringere Fehlzeiten 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Höhere Pünktlichkeit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Effizientere Auslastung betrieblicher Infrastruktur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Weniger Konflikte mit dem städtebaulichen Umfeld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Sonstiger Zusatznutzen (z.B. Imagegewinn)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836720" y="34225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38088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r">
              <a:lnSpc>
                <a:spcPct val="100000"/>
              </a:lnSpc>
              <a:tabLst>
                <a:tab algn="l" pos="0"/>
                <a:tab algn="l" pos="3998880"/>
                <a:tab algn="l" pos="5329080"/>
                <a:tab algn="r" pos="7043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e64"/>
                </a:solidFill>
                <a:latin typeface="Arial Narrow"/>
              </a:rPr>
              <a:t>- Vielen Dank für Ihre Aufmerksamkeit ! -</a:t>
            </a:r>
            <a:endParaRPr b="0" lang="en-US" sz="28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05120" y="5638680"/>
            <a:ext cx="716256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e64"/>
                </a:solidFill>
                <a:latin typeface="Arial Narrow"/>
              </a:rPr>
              <a:t>Infineon Technologies Dresden GmbH &amp; Co. OHG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e64"/>
                </a:solidFill>
                <a:latin typeface="Arial Narrow"/>
              </a:rPr>
              <a:t>Infineon Technologies SC300 GmbH &amp; Co. KG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e64"/>
                </a:solidFill>
                <a:latin typeface="Arial Narrow"/>
              </a:rPr>
              <a:t>Infineon Technologies Flash GmbH &amp; Co. KG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85520" y="30132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800" spc="-1" strike="noStrike">
                <a:solidFill>
                  <a:srgbClr val="001e64"/>
                </a:solidFill>
                <a:latin typeface="Arial Narrow"/>
              </a:rPr>
              <a:t>Standort Infineon Technologies Dresden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33720" y="1382760"/>
            <a:ext cx="6705360" cy="4179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853452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2" name=""/>
          <p:cNvSpPr/>
          <p:nvPr/>
        </p:nvSpPr>
        <p:spPr>
          <a:xfrm>
            <a:off x="1663560" y="22860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1e64"/>
                </a:solidFill>
                <a:latin typeface="Arial"/>
                <a:ea typeface="Arial"/>
              </a:rPr>
              <a:t>Infineon Technologies Dresden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e64"/>
                </a:solidFill>
                <a:latin typeface="Arial Narrow"/>
              </a:rPr>
              <a:t>Meilensteine</a:t>
            </a:r>
            <a:endParaRPr b="0" lang="en-US" sz="2800" spc="-1" strike="noStrike">
              <a:solidFill>
                <a:srgbClr val="001e64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00200" y="1371600"/>
            <a:ext cx="3504960" cy="5181480"/>
            <a:chOff x="1600200" y="1371600"/>
            <a:chExt cx="3504960" cy="518148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1600200" y="4038480"/>
              <a:ext cx="3504960" cy="25146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1600200" y="1371600"/>
              <a:ext cx="3504960" cy="2519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</p:grpSp>
      <p:sp>
        <p:nvSpPr>
          <p:cNvPr id="116" name=""/>
          <p:cNvSpPr/>
          <p:nvPr/>
        </p:nvSpPr>
        <p:spPr>
          <a:xfrm>
            <a:off x="5137200" y="1887480"/>
            <a:ext cx="4568760" cy="39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169920"/>
                <a:tab algn="r" pos="357840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de-DE" sz="1600" spc="-1" strike="noStrike">
                <a:solidFill>
                  <a:srgbClr val="001e64"/>
                </a:solidFill>
                <a:latin typeface="Arial"/>
                <a:ea typeface="Arial"/>
              </a:rPr>
              <a:t>Entscheidung für Ansiedlung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169920"/>
                <a:tab algn="r" pos="357840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de-DE" sz="1600" spc="-1" strike="noStrike">
                <a:solidFill>
                  <a:srgbClr val="001e64"/>
                </a:solidFill>
                <a:latin typeface="Arial"/>
                <a:ea typeface="Arial"/>
              </a:rPr>
              <a:t>Grundsteinlegung Modul 1 und 2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169920"/>
                <a:tab algn="r" pos="357840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de-DE" sz="1600" spc="-1" strike="noStrike">
                <a:solidFill>
                  <a:srgbClr val="001e64"/>
                </a:solidFill>
                <a:latin typeface="Arial"/>
                <a:ea typeface="Arial"/>
              </a:rPr>
              <a:t>Produktionsbeginn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169920"/>
                <a:tab algn="r" pos="357840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169920"/>
                <a:tab algn="r" pos="357840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169920"/>
                <a:tab algn="r" pos="357840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de-DE" sz="1600" spc="-1" strike="noStrike">
                <a:solidFill>
                  <a:srgbClr val="001e64"/>
                </a:solidFill>
                <a:latin typeface="Arial"/>
                <a:ea typeface="Arial"/>
              </a:rPr>
              <a:t>300mm JV mit Motorola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169920"/>
                <a:tab algn="r" pos="357840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de-DE" sz="1600" spc="-1" strike="noStrike">
                <a:solidFill>
                  <a:srgbClr val="001e64"/>
                </a:solidFill>
                <a:latin typeface="Arial"/>
                <a:ea typeface="Arial"/>
              </a:rPr>
              <a:t>Grundsteinlegung Modul 3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169920"/>
                <a:tab algn="r" pos="357840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de-DE" sz="1600" spc="-1" strike="noStrike">
                <a:solidFill>
                  <a:srgbClr val="001e64"/>
                </a:solidFill>
                <a:latin typeface="Arial"/>
                <a:ea typeface="Arial"/>
              </a:rPr>
              <a:t>Produktionsbeginn 300mm Linie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169920"/>
                <a:tab algn="r" pos="357840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de-DE" sz="1600" spc="-1" strike="noStrike">
                <a:solidFill>
                  <a:srgbClr val="001e64"/>
                </a:solidFill>
                <a:latin typeface="Arial"/>
                <a:ea typeface="Arial"/>
              </a:rPr>
              <a:t>Announcement R&amp;D Center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89920" y="1905120"/>
            <a:ext cx="1600200" cy="39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169920"/>
                <a:tab algn="r" pos="357840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1" lang="en-GB" sz="1800" spc="-1" strike="noStrike">
                <a:solidFill>
                  <a:srgbClr val="001e64"/>
                </a:solidFill>
                <a:latin typeface="Arial Narrow"/>
              </a:rPr>
              <a:t>12/93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169920"/>
                <a:tab algn="r" pos="357840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1" lang="en-GB" sz="1800" spc="-1" strike="noStrike">
                <a:solidFill>
                  <a:srgbClr val="001e64"/>
                </a:solidFill>
                <a:latin typeface="Arial Narrow"/>
              </a:rPr>
              <a:t>6/94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169920"/>
                <a:tab algn="r" pos="357840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1" lang="en-GB" sz="1800" spc="-1" strike="noStrike">
                <a:solidFill>
                  <a:srgbClr val="001e64"/>
                </a:solidFill>
                <a:latin typeface="Arial Narrow"/>
              </a:rPr>
              <a:t>10/95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169920"/>
                <a:tab algn="r" pos="357840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169920"/>
                <a:tab algn="r" pos="357840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169920"/>
                <a:tab algn="r" pos="357840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1" lang="en-GB" sz="1800" spc="-1" strike="noStrike">
                <a:solidFill>
                  <a:srgbClr val="001e64"/>
                </a:solidFill>
                <a:latin typeface="Arial Narrow"/>
              </a:rPr>
              <a:t>2/98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169920"/>
                <a:tab algn="r" pos="357840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1" lang="en-GB" sz="1800" spc="-1" strike="noStrike">
                <a:solidFill>
                  <a:srgbClr val="001e64"/>
                </a:solidFill>
                <a:latin typeface="Arial Narrow"/>
              </a:rPr>
              <a:t>5/00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169920"/>
                <a:tab algn="r" pos="357840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1" lang="en-GB" sz="1800" spc="-1" strike="noStrike">
                <a:solidFill>
                  <a:srgbClr val="001e64"/>
                </a:solidFill>
                <a:latin typeface="Arial Narrow"/>
              </a:rPr>
              <a:t>06/01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169920"/>
                <a:tab algn="r" pos="357840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1" lang="en-GB" sz="1800" spc="-1" strike="noStrike">
                <a:solidFill>
                  <a:srgbClr val="001e64"/>
                </a:solidFill>
                <a:latin typeface="Arial Narrow"/>
              </a:rPr>
              <a:t>02/04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350120" y="2590920"/>
            <a:ext cx="2149560" cy="2149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99320" y="1328760"/>
            <a:ext cx="1861920" cy="1525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576520" y="3876840"/>
            <a:ext cx="4017960" cy="2857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270320" y="1419120"/>
            <a:ext cx="1420920" cy="392040"/>
          </a:xfrm>
          <a:prstGeom prst="rect">
            <a:avLst/>
          </a:prstGeom>
          <a:gradFill rotWithShape="0">
            <a:gsLst>
              <a:gs pos="0">
                <a:srgbClr val="001e64"/>
              </a:gs>
              <a:gs pos="100000">
                <a:srgbClr val="859fcd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98400" y="14446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ktop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99040" y="3048120"/>
            <a:ext cx="1420920" cy="392040"/>
          </a:xfrm>
          <a:prstGeom prst="rect">
            <a:avLst/>
          </a:prstGeom>
          <a:gradFill rotWithShape="0">
            <a:gsLst>
              <a:gs pos="0">
                <a:srgbClr val="001e64"/>
              </a:gs>
              <a:gs pos="100000">
                <a:srgbClr val="859fcd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27480" y="305280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ebook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523880" y="1360440"/>
            <a:ext cx="2522520" cy="2660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970680" y="4676760"/>
            <a:ext cx="1420920" cy="392040"/>
          </a:xfrm>
          <a:prstGeom prst="rect">
            <a:avLst/>
          </a:prstGeom>
          <a:gradFill rotWithShape="0">
            <a:gsLst>
              <a:gs pos="0">
                <a:srgbClr val="001e64"/>
              </a:gs>
              <a:gs pos="100000">
                <a:srgbClr val="859fcd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96960" y="4702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DA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8402760" y="4751280"/>
            <a:ext cx="1199880" cy="1824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665360" y="228600"/>
            <a:ext cx="793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 Narrow"/>
              </a:rPr>
              <a:t>Produkte und Anwendungen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800" spc="-1" strike="noStrike">
                <a:solidFill>
                  <a:srgbClr val="001e64"/>
                </a:solidFill>
                <a:latin typeface="Arial Narrow"/>
              </a:rPr>
              <a:t>Speicher (DRAMs)</a:t>
            </a:r>
            <a:endParaRPr b="0" lang="en-US" sz="28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506920" y="1604880"/>
            <a:ext cx="2160720" cy="376200"/>
          </a:xfrm>
          <a:prstGeom prst="rect">
            <a:avLst/>
          </a:prstGeom>
          <a:gradFill rotWithShape="0">
            <a:gsLst>
              <a:gs pos="0">
                <a:srgbClr val="001e64"/>
              </a:gs>
              <a:gs pos="100000">
                <a:srgbClr val="859fcd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kte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7080" y="1608120"/>
            <a:ext cx="2071800" cy="376200"/>
          </a:xfrm>
          <a:prstGeom prst="rect">
            <a:avLst/>
          </a:prstGeom>
          <a:gradFill rotWithShape="0">
            <a:gsLst>
              <a:gs pos="0">
                <a:srgbClr val="001e64"/>
              </a:gs>
              <a:gs pos="100000">
                <a:srgbClr val="859fcd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wendungen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8120" y="4224240"/>
            <a:ext cx="8236080" cy="1944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dcbe4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8120" y="1989000"/>
            <a:ext cx="8236080" cy="1944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dcbe4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85520" y="30132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br>
              <a:rPr sz="2800"/>
            </a:br>
            <a:r>
              <a:rPr b="0" lang="en-GB" sz="2000" spc="-1" strike="noStrike">
                <a:solidFill>
                  <a:srgbClr val="001e64"/>
                </a:solidFill>
                <a:latin typeface="Arial Narrow"/>
              </a:rPr>
              <a:t>Produkte und Anwendungen</a:t>
            </a:r>
            <a:r>
              <a:rPr b="1" lang="en-GB" sz="2800" spc="-1" strike="noStrike">
                <a:solidFill>
                  <a:srgbClr val="001e64"/>
                </a:solidFill>
                <a:latin typeface="Arial Narrow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001e64"/>
                </a:solidFill>
                <a:latin typeface="Arial Narrow"/>
              </a:rPr>
              <a:t>Flash Produkt Portfolio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1523880"/>
            <a:ext cx="1884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2147760"/>
            <a:ext cx="3568680" cy="16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marL="266760" indent="-266760">
              <a:lnSpc>
                <a:spcPct val="110000"/>
              </a:lnSpc>
              <a:buClr>
                <a:srgbClr val="001e64"/>
              </a:buClr>
              <a:buSzPct val="75000"/>
              <a:buFont typeface="Wingdings" charset="2"/>
              <a:buChar char="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GB" sz="1800" spc="-1" strike="noStrike">
                <a:solidFill>
                  <a:srgbClr val="001e64"/>
                </a:solidFill>
                <a:latin typeface="Arial"/>
              </a:rPr>
              <a:t>Hochvolumen-Produkte mit starkem Wachstum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buClr>
                <a:srgbClr val="001e64"/>
              </a:buClr>
              <a:buSzPct val="75000"/>
              <a:buFont typeface="Wingdings" charset="2"/>
              <a:buChar char="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GB" sz="1800" spc="-1" strike="noStrike">
                <a:solidFill>
                  <a:srgbClr val="001e64"/>
                </a:solidFill>
                <a:latin typeface="Arial"/>
              </a:rPr>
              <a:t>SD-Card und MultiMediaCard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6680" y="1844640"/>
            <a:ext cx="2357280" cy="379440"/>
          </a:xfrm>
          <a:prstGeom prst="rect">
            <a:avLst/>
          </a:prstGeom>
          <a:gradFill rotWithShape="0">
            <a:gsLst>
              <a:gs pos="0">
                <a:srgbClr val="001e64"/>
              </a:gs>
              <a:gs pos="100000">
                <a:srgbClr val="859fcd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lash Karten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25480" y="4863960"/>
            <a:ext cx="3652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marL="266760" indent="-266760">
              <a:lnSpc>
                <a:spcPct val="110000"/>
              </a:lnSpc>
              <a:buClr>
                <a:srgbClr val="001e64"/>
              </a:buClr>
              <a:buSzPct val="75000"/>
              <a:buFont typeface="Wingdings" charset="2"/>
              <a:buChar char="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GB" sz="1800" spc="-1" strike="noStrike">
                <a:solidFill>
                  <a:srgbClr val="001e64"/>
                </a:solidFill>
                <a:latin typeface="Arial"/>
              </a:rPr>
              <a:t>NAND-kompatibler 512Mbit Flash-Chip im TSOP-Gehäuse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6680" y="4097160"/>
            <a:ext cx="2403360" cy="379440"/>
          </a:xfrm>
          <a:prstGeom prst="rect">
            <a:avLst/>
          </a:prstGeom>
          <a:gradFill rotWithShape="0">
            <a:gsLst>
              <a:gs pos="0">
                <a:srgbClr val="001e64"/>
              </a:gs>
              <a:gs pos="100000">
                <a:srgbClr val="859fcd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lash Komponenten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126280" y="2976480"/>
          <a:ext cx="1524240" cy="88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6280" y="2976480"/>
                    <a:ext cx="152424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756560" y="4568760"/>
            <a:ext cx="2082600" cy="1216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667480" y="4575240"/>
            <a:ext cx="1838160" cy="120960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8112240" y="2089080"/>
            <a:ext cx="1457280" cy="881280"/>
            <a:chOff x="8112240" y="2089080"/>
            <a:chExt cx="1457280" cy="881280"/>
          </a:xfrm>
        </p:grpSpPr>
        <p:graphicFrame>
          <p:nvGraphicFramePr>
            <p:cNvPr id="145" name=""/>
            <p:cNvGraphicFramePr/>
            <p:nvPr/>
          </p:nvGraphicFramePr>
          <p:xfrm>
            <a:off x="8412120" y="2098800"/>
            <a:ext cx="784440" cy="81900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412120" y="2098800"/>
                      <a:ext cx="784440" cy="81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"/>
            <p:cNvGraphicFramePr/>
            <p:nvPr/>
          </p:nvGraphicFramePr>
          <p:xfrm>
            <a:off x="9202680" y="2089080"/>
            <a:ext cx="366840" cy="88128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02680" y="2089080"/>
                      <a:ext cx="366840" cy="8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9" name="" descr=""/>
            <p:cNvPicPr/>
            <p:nvPr/>
          </p:nvPicPr>
          <p:blipFill>
            <a:blip r:embed="rId9"/>
            <a:stretch/>
          </p:blipFill>
          <p:spPr>
            <a:xfrm>
              <a:off x="8112240" y="2098800"/>
              <a:ext cx="407880" cy="86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5699160" y="2070000"/>
            <a:ext cx="906480" cy="1170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6610320" y="2725560"/>
            <a:ext cx="879480" cy="11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76520" y="4343400"/>
            <a:ext cx="1677960" cy="436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676520" y="5638680"/>
            <a:ext cx="1352520" cy="714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733920" y="5334120"/>
            <a:ext cx="1428480" cy="542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467480" y="5181480"/>
            <a:ext cx="1990800" cy="476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7316640" y="2057400"/>
            <a:ext cx="2151360" cy="706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4648320" y="1981080"/>
            <a:ext cx="1447560" cy="638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1752480" y="3095640"/>
            <a:ext cx="2295720" cy="333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7162920" y="2971800"/>
            <a:ext cx="95256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5335560" y="4648320"/>
            <a:ext cx="1312920" cy="342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>
            <a:off x="3581280" y="1523880"/>
            <a:ext cx="1143000" cy="505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1"/>
          <a:stretch/>
        </p:blipFill>
        <p:spPr>
          <a:xfrm>
            <a:off x="6248520" y="3733920"/>
            <a:ext cx="1295280" cy="627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2"/>
          <a:stretch/>
        </p:blipFill>
        <p:spPr>
          <a:xfrm>
            <a:off x="3200400" y="2362320"/>
            <a:ext cx="1905120" cy="542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3"/>
          <a:stretch/>
        </p:blipFill>
        <p:spPr>
          <a:xfrm>
            <a:off x="5486400" y="1447920"/>
            <a:ext cx="1523880" cy="539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4"/>
          <a:stretch/>
        </p:blipFill>
        <p:spPr>
          <a:xfrm>
            <a:off x="4952880" y="6172200"/>
            <a:ext cx="1828800" cy="314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5"/>
          <a:stretch/>
        </p:blipFill>
        <p:spPr>
          <a:xfrm>
            <a:off x="7316640" y="1523880"/>
            <a:ext cx="2084400" cy="270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6"/>
          <a:stretch/>
        </p:blipFill>
        <p:spPr>
          <a:xfrm>
            <a:off x="7238880" y="5867280"/>
            <a:ext cx="1495440" cy="362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7"/>
          <a:stretch/>
        </p:blipFill>
        <p:spPr>
          <a:xfrm>
            <a:off x="1752480" y="1371600"/>
            <a:ext cx="1381320" cy="324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8"/>
          <a:stretch/>
        </p:blipFill>
        <p:spPr>
          <a:xfrm>
            <a:off x="1676520" y="2057400"/>
            <a:ext cx="1218960" cy="506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85520" y="30132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 Narrow"/>
              </a:rPr>
              <a:t>Infineon Technologies Dresden</a:t>
            </a:r>
            <a:br>
              <a:rPr sz="2400"/>
            </a:br>
            <a:r>
              <a:rPr b="1" lang="en-US" sz="2800" spc="-1" strike="noStrike">
                <a:solidFill>
                  <a:srgbClr val="001e64"/>
                </a:solidFill>
                <a:latin typeface="Arial Narrow"/>
              </a:rPr>
              <a:t>Unsere Kunden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9"/>
          <a:stretch/>
        </p:blipFill>
        <p:spPr>
          <a:xfrm>
            <a:off x="7086600" y="4572000"/>
            <a:ext cx="866880" cy="457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0"/>
          <a:stretch/>
        </p:blipFill>
        <p:spPr>
          <a:xfrm>
            <a:off x="7924680" y="3657600"/>
            <a:ext cx="1552680" cy="465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1"/>
          <a:stretch/>
        </p:blipFill>
        <p:spPr>
          <a:xfrm>
            <a:off x="1778040" y="3568680"/>
            <a:ext cx="1609560" cy="314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2"/>
          <a:stretch/>
        </p:blipFill>
        <p:spPr>
          <a:xfrm>
            <a:off x="4952880" y="3173400"/>
            <a:ext cx="1295640" cy="255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3"/>
          <a:stretch/>
        </p:blipFill>
        <p:spPr>
          <a:xfrm>
            <a:off x="5664240" y="5168880"/>
            <a:ext cx="1152360" cy="2858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4"/>
          <a:stretch/>
        </p:blipFill>
        <p:spPr>
          <a:xfrm>
            <a:off x="3657600" y="4495680"/>
            <a:ext cx="1447920" cy="4730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5"/>
          <a:stretch/>
        </p:blipFill>
        <p:spPr>
          <a:xfrm>
            <a:off x="4016520" y="3573360"/>
            <a:ext cx="865080" cy="703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6"/>
          <a:stretch/>
        </p:blipFill>
        <p:spPr>
          <a:xfrm>
            <a:off x="8048520" y="4437000"/>
            <a:ext cx="1781280" cy="4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00200" y="1346040"/>
            <a:ext cx="7924680" cy="5283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52388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Steckbrief</a:t>
            </a:r>
            <a:endParaRPr b="0" lang="en-US" sz="2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31800" y="1389240"/>
            <a:ext cx="73836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rmAutofit/>
          </a:bodyPr>
          <a:p>
            <a:pPr marL="324000" indent="-324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Über 5.500 Mitarbeiter aus über 30 Nationen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Produktion und integrierte Entwicklung 24 Stunden an sieben Tagen in der Woche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ca. 2.800 Mitarbeiter arbeiten im kontinuierlichen Schichtbetrieb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605240" y="60948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Mitarbeiterverteilung</a:t>
            </a:r>
            <a:endParaRPr b="0" lang="en-US" sz="2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1752480"/>
            <a:ext cx="434340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2720" y="1889280"/>
            <a:ext cx="359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55% unserer MA aus Dresden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2590920"/>
            <a:ext cx="1676520" cy="761760"/>
          </a:xfrm>
          <a:prstGeom prst="rightArrow">
            <a:avLst>
              <a:gd name="adj1" fmla="val 50000"/>
              <a:gd name="adj2" fmla="val 55021"/>
            </a:avLst>
          </a:prstGeom>
          <a:solidFill>
            <a:srgbClr val="00cc99"/>
          </a:solidFill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360" y="27432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davon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58720" y="2728080"/>
            <a:ext cx="3276360" cy="5637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30% Umkreis 5 km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4343400"/>
            <a:ext cx="426708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11360" y="457200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45% Umland bis 100 km Distanz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2:58:10Z</dcterms:created>
  <dc:creator>Gottlöber</dc:creator>
  <dc:description/>
  <dc:language>en-US</dc:language>
  <cp:lastModifiedBy>kuehnelk</cp:lastModifiedBy>
  <cp:lastPrinted>2003-09-18T08:27:51Z</cp:lastPrinted>
  <dcterms:modified xsi:type="dcterms:W3CDTF">2004-10-18T10:00:44Z</dcterms:modified>
  <cp:revision>217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5521470</vt:r8>
  </property>
  <property fmtid="{D5CDD505-2E9C-101B-9397-08002B2CF9AE}" pid="3" name="_AuthorEmail">
    <vt:lpwstr>Kathleen.Kuehnel@infineon.com</vt:lpwstr>
  </property>
  <property fmtid="{D5CDD505-2E9C-101B-9397-08002B2CF9AE}" pid="4" name="_AuthorEmailDisplayName">
    <vt:lpwstr>Kuehnel Kathleen (IFD C)</vt:lpwstr>
  </property>
  <property fmtid="{D5CDD505-2E9C-101B-9397-08002B2CF9AE}" pid="5" name="_EmailSubject">
    <vt:lpwstr>kongress</vt:lpwstr>
  </property>
</Properties>
</file>